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786-7DBF-4FCB-B59A-9CE2E5B6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477-1D5B-4D44-BCE2-B8A1BEEA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2E8-65E7-4F2C-8BCB-D6302384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E64-8697-48B4-8F50-648994B6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7EC5-9D3D-4D46-99DB-99104CB0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B2BB-D27C-4182-81F0-0A5F43F3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E86D-7096-46EF-94AC-5FBE9EC4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B0BE-D230-462E-917F-5B2C6770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C027-5467-4EDA-B831-624FA925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7C53-8C2E-4149-8BDD-311682AC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9528-F7B4-42CC-BD9F-8269571B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6E3-8F82-434A-A71E-07BB0457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4FC9-32C0-481E-830A-94706ACD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3DBF-46A4-4EAF-B2D2-F09C230F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97B8-6874-4080-9E42-AC04C8DD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B8FD-0329-40DF-A20D-B94C30AA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9092-054E-4DA9-B34C-0E17139D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897-2540-4EBF-BA34-EC122E56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71E-021A-4B5C-A370-8D11FC0D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586-F7A3-4F6D-BF30-BD028293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23A-9985-447E-BF6A-EE5C00A3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742-D2B4-4DAC-A0D5-6E8B1DEC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7D6-D019-4AF5-95FA-D5722F40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E11-A82E-4E18-A649-C05C649E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A507-D0C8-4BA1-8FA4-735D57D47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19E8-A834-4591-97A8-56DD65695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e Parts of Spee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u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singular possessives are formed by adding an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postrophe + s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plural possessives are formed by adding an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postrop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mm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rd / bird'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rds / birds'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plural possessives are formed by adding an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postroph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following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-end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the plura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ird's territory = the territory of the bir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irds' territory = the territory of the bird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ollective Nou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ve nouns refer to groups of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things. Collective nouns can usually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d; therefore, they have plural for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d gang staff bunch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ds gangs staffs bunches stat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66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What is a noun?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noun is any word which names a person, place, thing, idea, animal, quality, or activity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848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nt and Collective Nouns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280" y="2565360"/>
            <a:ext cx="7777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unt Nou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unt nouns refer to anything which can be counted. They have a singular form and a plural for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218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s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rson - Jennif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ce – downtow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ng - tab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dea – equa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imal - goph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ality – heigh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ivity - naviga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ypes of Noun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er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the names of specific things, people, or places,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hicoutim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hrist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y usually begin with a capital letter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on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general name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n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oo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y can be either concrete or abstrac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rete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fer to things which you can sense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lo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leph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bstract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fer to ideas or qualitie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iber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ow to form Plural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lural usually ends i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r plan dollar piece apple do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rs plans dollars pieces apples dot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st nouns ending i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quire an -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uffix to be plural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us latch wish potato hero ech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uses latches wishes potatoes heroes echo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uns ending in a consonant followed by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ecome plural by changing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 to i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and adding -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orry story apology spy myste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orries stories apologies spies mysteri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rregular count nouns do not form their plurals using the rules stated above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an goose mouse crisis child ox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en geese mice crises children oxe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ossessive Nouns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uns can also b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expresses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wnership,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usually of the following noun, and often corresponds to a structure with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: Khan's wrath = the wrath of Kh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5:25:52Z</dcterms:created>
  <dc:creator>Administrator</dc:creator>
  <dc:description/>
  <dc:language>en-US</dc:language>
  <cp:lastModifiedBy>Administrator</cp:lastModifiedBy>
  <dcterms:modified xsi:type="dcterms:W3CDTF">2006-11-22T14:59:37Z</dcterms:modified>
  <cp:revision>21</cp:revision>
  <dc:subject/>
  <dc:title>The Parts of Speech</dc:title>
</cp:coreProperties>
</file>