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8DE-12D1-4A11-BC1C-F28388BD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996-56B9-4449-B1D0-27FBECF8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95F6-D681-412B-9088-59D72423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1C92-7DB1-44C5-95C8-F01EF369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8098-BCCD-400F-ACD8-4C2617AC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8B93-CB72-4339-AB50-56834E0C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81F4-0F3C-4816-B080-317C1403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174C-0211-4935-8816-F4D8F2FB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8A51-C6B0-48CF-A0E7-3497F82D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3CC9-603E-4C9B-AD08-853B053C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3CE5-94DE-460A-A9F7-254DA0AF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ADD-FDD2-4802-BDD7-1F111E63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6EEA-E6ED-4460-9C74-D1009ABE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1855-293B-4B47-A076-F2CB84CC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1BD9-F5EB-454D-BC10-A115D621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F662-CD69-4685-97AA-88AE3896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18EC-97BB-4997-B8AA-790E1188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3F4C-8F23-4759-917F-8A9E52B0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198-E5B5-4040-94E0-9E234A50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E1F-4626-4C54-B91C-4CA06B5C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A4F-E910-4CCC-8476-A118FE30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069-D9A5-4A5D-9A5B-2258C84F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D1B-E40E-439E-96FA-821F138D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E40-EF62-4D9D-B234-824A84DB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635B-DC31-47D2-9CDF-52A48ECD5A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9039-6F56-4323-A11C-FF4A39849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he Parts of Spee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u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t singular possessives are formed by adding an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postrophe + s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t plural possessives are formed by adding an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postroph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mm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ossessive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ngular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rd / bird'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ural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rds / birds'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t plural possessives are formed by adding an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postroph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following th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-ending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of the plural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bird's territory = the territory of the bird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birds' territory = the territory of the bird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ollective Noun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ve nouns refer to groups of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things. Collective nouns can usually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ted; therefore, they have plural form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d gang staff bunch st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ds gangs staffs bunches stat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66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What is a noun?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noun is any word which names a person, place, thing, idea, animal, quality, or activity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848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unt and Collective Nouns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280" y="2565360"/>
            <a:ext cx="7777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unt Nou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unt nouns refer to anything which can be counted. They have a singular form and a plural form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218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s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rson - Jennife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ce – downtow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ing - tab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dea – equal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imal - gophe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ality – heigh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tivity - navigatio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ypes of Nouns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per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the names of specific things, people, or places,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hicoutim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hrist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They usually begin with a capital letter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mon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general names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ers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n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oo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They can be either concrete or abstrac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rete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fer to things which you can sense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lo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elepho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bstract nou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fer to ideas or qualities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iber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ru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How to form Plural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plural usually ends i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ngular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ar plan dollar piece apple do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lural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ars plans dollars pieces apples dot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st nouns ending i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or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require an -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suffix to be plural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ingular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bus latch wish potato hero ech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lural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buses latches wishes potatoes heroes echoe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uns ending in a consonant followed by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ecome plural by changing th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y to i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and adding -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ngula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worry story apology spy myste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ur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worries stories apologies spies mysteri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rregular count nouns do not form their plurals using the rules stated above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ngula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man goose mouse crisis child ox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ur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men geese mice crises children oxe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362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Possessive Nouns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uns can also b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ossessive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The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ossessiv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expresses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wnership,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usually of the following noun, and often corresponds to a structure with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ample: Khan's wrath = the wrath of Kh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5:25:52Z</dcterms:created>
  <dc:creator>Administrator</dc:creator>
  <dc:description/>
  <dc:language>en-US</dc:language>
  <cp:lastModifiedBy>Administrator</cp:lastModifiedBy>
  <dcterms:modified xsi:type="dcterms:W3CDTF">2006-11-22T14:59:37Z</dcterms:modified>
  <cp:revision>21</cp:revision>
  <dc:subject/>
  <dc:title>The Parts of Speech</dc:title>
</cp:coreProperties>
</file>