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B1D5-7FCD-4671-AB51-03F12D70B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9788-0FA2-42D2-9A2F-6204586B2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2961-E985-4725-B39B-A74D2E5F8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DDAA-6470-4364-9431-4301D128E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B2645-E6AB-41CC-B694-6A0E84830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2E760-01FF-4189-826F-0A0A07837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BB96C-2906-49D8-8102-1D72E9B94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AC62A-311F-4BC6-970E-D8D4CD10F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A31AA-9D9D-4FB0-96E4-E0564B4C8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64BFF-D8AB-4A32-BEE3-640344C0E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771A5-3CBE-4A74-9E85-1CD14904E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2DA7-D04C-4EF4-B842-D958A89E3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05A57-EDFD-4E0A-BF99-8D887E4D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BA44A-6E40-40D9-A89C-9E1196C3E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093AB-49C7-470E-BE5A-FBB805DE2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D6323-501B-4A90-8838-CA162D444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7FC90-DEE9-4620-A4EE-C35425C57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57DE-6E6E-4C08-AD0A-127EE4FBD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989B-4152-49FE-A2C6-BBC929648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1948-EE62-4465-A7D0-23ADB466D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ABF0-56A4-4B22-A4E2-0D30E5C76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2ED4-056B-459F-B4F7-20299FABF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8AB5-A63F-4D76-B491-5106E290C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F0BA-CED9-471F-A5EE-8DD452FD9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1BE7F-3BE0-4DDD-AF21-759A1DD22E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76915-6828-4EB0-B2B2-63FE24F30F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The Parts of Speech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Nou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ost singular possessives are formed by adding an 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apostrophe + s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ost plural possessives are formed by adding an 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apostroph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Common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Possessive: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Singular: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bird / bird's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Plural: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birds / birds'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ost plural possessives are formed by adding an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apostrophe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following the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s-ending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of the plural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bird's territory = the territory of the bird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birds' territory = the territory of the birds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Collective Noun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llective nouns refer to groups of peop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 things. Collective nouns can usually b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unted; therefore, they have plural form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xamples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erd gang staff bunch stat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erds gangs staffs bunches states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8785440" cy="6669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What is a noun?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: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 noun is any word which names a person, place, thing, idea, animal, quality, or activity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784836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unt and Collective Nouns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55280" y="2565360"/>
            <a:ext cx="777708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unt Noun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unt nouns refer to anything which can be counted. They have a singular form and a plural form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6840" y="259920"/>
            <a:ext cx="821844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xamples: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erson - Jennifer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lace – downtow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ing - table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dea – equalit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nimal - gopher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quality – heigh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ctivity - navigation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ypes of Nouns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roper noun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re the names of specific things, people, or places, such as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Chicoutim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Christin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They usually begin with a capital letter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mmon noun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re general names such as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pers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mans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and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book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They can be either concrete or abstrac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ncrete noun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refer to things which you can sense such as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clock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telephon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bstract noun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refer to ideas or qualities such as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libert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trut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How to form Plural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6868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plural usually ends in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-s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ingular: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car plan dollar piece apple dot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lural: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cars plans dollars pieces apples dots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ost nouns ending in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h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, or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h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require an -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es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suffix to be plural: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ingular: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bus latch wish potato hero echo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lural: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buses latches wishes potatoes heroes echoes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ouns ending in a consonant followed by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become plural by changing the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y to i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and adding -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es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singular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worry story apology spy myster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plural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worries stories apologies spies mysteries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rregular count nouns do not form their plurals using the rules stated above: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singular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man goose mouse crisis child ox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plural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men geese mice crises children oxen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362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Possessive Nouns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ouns can also be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possessive.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The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possessive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expresses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ownership,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usually of the following noun, and often corresponds to a structure with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of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xample: Khan's wrath = the wrath of Kha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7T15:25:52Z</dcterms:created>
  <dc:creator>Administrator</dc:creator>
  <dc:description/>
  <dc:language>en-US</dc:language>
  <cp:lastModifiedBy>Administrator</cp:lastModifiedBy>
  <dcterms:modified xsi:type="dcterms:W3CDTF">2006-11-22T14:59:37Z</dcterms:modified>
  <cp:revision>21</cp:revision>
  <dc:subject/>
  <dc:title>The Parts of Speech</dc:title>
</cp:coreProperties>
</file>