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E7CB-D886-497D-871F-50DB12C75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0565-289D-4CEC-88F6-44787D12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94B4-033A-4968-9B3B-513F9C7DD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61B8-73EC-440F-AFEC-AB74829B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9CFB-5628-4106-909D-49A638986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AC34-6386-41BA-9E9B-6ED15747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B5AF-CABF-4D68-B76F-3B92780B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102B-5EF6-495E-9EBA-11B76E90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1371-CBE2-463A-B065-C0369FB9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B039-9379-4042-969F-664C74C4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3AE3-E18A-4487-932C-C793D8F7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EB8D-90A6-4CF3-8DDF-C1B121A1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DCDC-62B3-40B1-B5F4-14D3CF3F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E6E9-553E-4A6D-8F5B-5CE74CBB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C9A2-D9B1-4444-9378-1D6B499A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501F-5E30-450F-83BD-A0D87D885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6A23-9622-4EBB-BE5E-DDD40A63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5287-D780-457E-93AE-C57B82D0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ADB7-8F87-4B4F-AD86-D5D39E97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F0A3-4B46-4909-AB60-509CED89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9C9E-D94B-446B-BA38-AAF91CEC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23EA-E9EA-469A-9A78-80C9E2A5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12BC-F6D1-47FA-94EC-6D35565A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8DC3-552E-4272-97C8-2C741172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5363-65EF-4A2C-B016-CAA01861C9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6569-BE43-4275-933D-B8A8BB85B1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The Parts of Spee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u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ost singular possessives are formed by adding an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apostrophe + s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ost plural possessives are formed by adding an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apostroph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ommon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ossessive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ingular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bird / bird'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lural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birds / birds'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ost plural possessives are formed by adding an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postroph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following the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-ending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of the plural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bird's territory = the territory of the bird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birds' territory = the territory of the bird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Collective Noun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ective nouns refer to groups of peo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 things. Collective nouns can usually 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nted; therefore, they have plural form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ample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rd gang staff bunch sta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rds gangs staffs bunches state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669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What is a noun?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: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noun is any word which names a person, place, thing, idea, animal, quality, or activity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8483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unt and Collective Nouns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55280" y="2565360"/>
            <a:ext cx="77770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unt Noun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unt nouns refer to anything which can be counted. They have a singular form and a plural form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8218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amples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erson - Jennife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lace – downtow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ng - tabl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dea – equal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nimal - gophe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quality – heigh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ctivity - navigatio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ypes of Nouns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per nou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e the names of specific things, people, or places, such a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hicoutim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hrist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They usually begin with a capital letter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mmon nou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e general names such a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ers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ans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oo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They can be either concrete or abstrac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crete nou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efer to things which you can sense such a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loc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elepho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bstract nou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efer to ideas or qualities such a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iber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ru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How to form Plural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686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plural usually ends in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-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ingular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car plan dollar piece apple dot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lural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cars plans dollars pieces apples dots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st nouns ending in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h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, or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h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require an -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suffix to be plural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ingular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bus latch wish potato hero echo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lural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buses latches wishes potatoes heroes echoes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uns ending in a consonant followed by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become plural by changing the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y to i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and adding -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ingula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worry story apology spy myste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lural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worries stories apologies spies mysterie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rregular count nouns do not form their plurals using the rules stated above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ingula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man goose mouse crisis child ox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lural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men geese mice crises children oxe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362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Possessive Nouns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uns can also be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ossessive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The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ossessiv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expresses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ownership,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usually of the following noun, and often corresponds to a structure with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of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ample: Khan's wrath = the wrath of Kh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5:25:52Z</dcterms:created>
  <dc:creator>Administrator</dc:creator>
  <dc:description/>
  <dc:language>en-US</dc:language>
  <cp:lastModifiedBy>Administrator</cp:lastModifiedBy>
  <dcterms:modified xsi:type="dcterms:W3CDTF">2006-11-22T14:59:37Z</dcterms:modified>
  <cp:revision>21</cp:revision>
  <dc:subject/>
  <dc:title>The Parts of Speech</dc:title>
</cp:coreProperties>
</file>