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C5D-13B1-443F-9E24-C63AA04B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9AA-8A9E-4821-BE7B-3BA040C8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6F8-C979-46B5-95CA-41122819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E75-ACBF-40B3-9BA9-E4D56784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165-3956-439E-A530-3D83E765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FAA-811C-4A16-A079-18B04D7A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7BE-C7A5-48C9-8791-D3E4B0EC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D4D-CD8F-4178-891F-98F40722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A11-FFFC-4DDE-976C-45D9DC6B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2E4-751A-42BD-A3C7-2BD18355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647-1C3F-4EFF-AA95-D5D73D90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7D8-FEA3-403A-AFA3-4882DDBD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EE26-BDF6-475F-8B25-12DEDD9EE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Parts of Spee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PARTS OF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mes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a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d an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no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the place of a nou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noun or pronoun. He is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Mexica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r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action or state of being. Ad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as m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difies a verb, adjective, or adverb. We lef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es a noun or pronoun to another word. We looke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ords or groups of words. Bill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will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terj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strong feeling.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Ouch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arm h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4534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7:23:19Z</dcterms:created>
  <dc:creator>Administrator</dc:creator>
  <dc:description/>
  <dc:language>en-US</dc:language>
  <cp:lastModifiedBy>robert.gellert</cp:lastModifiedBy>
  <dcterms:modified xsi:type="dcterms:W3CDTF">2008-12-05T16:01:44Z</dcterms:modified>
  <cp:revision>11</cp:revision>
  <dc:subject/>
  <dc:title>The Parts of Speech</dc:title>
</cp:coreProperties>
</file>