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423-66FC-4A56-8AD5-E6C70030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139-020E-44F7-8832-824C4BB0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6C1-4534-4ABC-8AA1-F74349D1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810-2353-4C99-A044-8A47FAC7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435-1740-44E9-9F1D-B753F2D6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C39-645C-48BE-8366-D99FE102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3CF-EA5F-4D52-B191-18B5ED9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103-5ED8-4FB9-8285-F098B690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666-8692-4EF5-9283-BA9F465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3D2-0AF6-4B55-BEEC-D0DD69A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4B1-9AF5-43C3-A5EC-A9689A0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33D-13F4-4012-8473-576F4BEA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F4D8-DEC4-4AC6-8813-14B7E853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Parts of Spee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a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he place of a no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noun or pronoun. He is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x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ion or state of being. Ad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s m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verb, adjective, or adverb. We lef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a noun or pronoun to another word. We looke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ords or groups of words. Bil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ill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ter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strong feeling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u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rm h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534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23:19Z</dcterms:created>
  <dc:creator>Administrator</dc:creator>
  <dc:description/>
  <dc:language>en-US</dc:language>
  <cp:lastModifiedBy>robert.gellert</cp:lastModifiedBy>
  <dcterms:modified xsi:type="dcterms:W3CDTF">2008-12-05T16:01:44Z</dcterms:modified>
  <cp:revision>11</cp:revision>
  <dc:subject/>
  <dc:title>The Parts of Speech</dc:title>
</cp:coreProperties>
</file>