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D26-F324-4092-B2A1-A0043E87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122C-53E6-461B-BA41-87C5A9A0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846-397D-4B88-B47B-83AFA69C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C74-553E-4285-B6C1-7F92F824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0B54-F19D-4464-8145-F0472C0B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95BE-DF72-4D0F-95C1-21F624E4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FBC5-6BF2-4678-BDFA-0B2EE2C4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E3D4-5D60-4AFD-8004-E6346465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8323-60F9-4DA2-8509-E3FAB721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DAC4-B920-4743-8576-405DD113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B16D-4066-4E0C-8D55-615FC2C0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F3B-B4A1-496B-8931-5BC0B4D6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3323-B28E-47BA-9C7C-FD61E8F0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9612-5216-4001-AF16-FC500670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2897-35CC-407C-B230-B62A7DAD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7BE8-454F-4820-90A6-33E14360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788B-9A7E-4D55-9E2A-0EDB512D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0E7B-B09A-4438-BC7A-9CD221B1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91C-522E-44D4-8CF7-3AB58BE9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DFF9-FDA8-4C5F-825C-376A8152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EFA-C245-4E2D-BE7D-E2D336D3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046-14B6-4B14-9B34-E1C7EF29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74B-8D46-4583-86A9-5304AF51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172-3EA1-4D58-BE74-472C4670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6594-218A-41A6-B079-5509AD069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3984-E7CE-4D85-B4F7-59214EE601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he Parts of Spee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u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singular possessives are formed by adding an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postrophe + s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plural possessives are formed by adding an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postroph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mm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ossessive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ngular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rd / bird'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ural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rds / birds'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plural possessives are formed by adding an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postroph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following th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-ending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of the plural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bird's territory = the territory of the bird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birds' territory = the territory of the bird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ollective Noun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ve nouns refer to groups of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things. Collective nouns can usually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ed; therefore, they have plural form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d gang staff bunch st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ds gangs staffs bunches stat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66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What is a noun?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noun is any word which names a person, place, thing, idea, animal, quality, or activity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848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unt and Collective Nouns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280" y="2565360"/>
            <a:ext cx="7777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unt Nou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unt nouns refer to anything which can be counted. They have a singular form and a plural form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218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s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rson - Jennife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ce – downtow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ng - tab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dea – equal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imal - gophe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ality – heigh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tivity - navigatio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ypes of Nouns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per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the names of specific things, people, or places,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hicoutim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hrist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They usually begin with a capital letter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mon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general names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n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oo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They can be either concrete or abstrac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rete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fer to things which you can sense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lo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elepho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bstract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fer to ideas or qualities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iber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ru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How to form Plural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plural usually ends i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ngular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ar plan dollar piece apple do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lural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ars plans dollars pieces apples dot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st nouns ending i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or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require an -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suffix to be plural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ngular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bus latch wish potato hero ech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lural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buses latches wishes potatoes heroes echoe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uns ending in a consonant followed by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ecome plural by changing th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y to i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and adding -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ngula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worry story apology spy myste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ur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worries stories apologies spies mysteri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rregular count nouns do not form their plurals using the rules stated above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ngula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man goose mouse crisis child ox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ur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men geese mice crises children oxe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36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Possessive Nouns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uns can also b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ossessive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Th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ossessiv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expresses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wnership,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usually of the following noun, and often corresponds to a structure with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: Khan's wrath = the wrath of Kh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5:25:52Z</dcterms:created>
  <dc:creator>Administrator</dc:creator>
  <dc:description/>
  <dc:language>en-US</dc:language>
  <cp:lastModifiedBy>Administrator</cp:lastModifiedBy>
  <dcterms:modified xsi:type="dcterms:W3CDTF">2006-11-22T14:59:37Z</dcterms:modified>
  <cp:revision>21</cp:revision>
  <dc:subject/>
  <dc:title>The Parts of Speech</dc:title>
</cp:coreProperties>
</file>