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F661-9E6D-42F9-9F7A-F69893726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F183-6720-4A6F-93BD-F4BFE63D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4B39-8DEB-4C6A-B55E-3F8986610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9691-7183-424B-9F06-4F137EC03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2DFF-EE3B-45A0-89C6-6AC22DB26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4564-59E4-4818-868F-007D6776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667E-5E3C-421C-A131-F7CB7CA8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06E0-30C0-47A7-9BF1-57E7AD9F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9341-FAF6-48F7-8B9D-3C5934A6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EE6C-C451-4E88-9284-A9EDA77A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1ECB-5501-4D17-AB2F-EB2FC314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7C51-6829-4E73-915F-7629A80F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6872-9736-4057-AD01-0E35A804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DC52-2436-403E-AD0C-3AFF8B2E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FCE2-6C11-4641-BEA6-F0849257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16A5-FE62-4ACA-8524-58E0F41B5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0E091-CF35-497A-A60C-52E643928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5B07-2F8D-4109-BE11-89212938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DD21-6711-493F-A08C-49747B4B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DA6D-0925-44AF-A2F8-96886226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9042-DFB8-47B5-9737-3CB0A6D1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3E3C-1A30-42E0-860F-22D1DEBF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189C-58E8-46D0-B525-AD5BF84A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CFD6-6290-43DA-9FE6-46E6FA4C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5F26-10D8-4EE5-AC93-6A32AF4856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0FD1-89DC-4CB6-9CFC-08187253F0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The Parts of Speec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ou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ost singular possessives are formed by adding an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apostrophe + s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ost plural possessives are formed by adding an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apostroph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ommon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ossessive: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ingular: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bird / bird's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lural: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birds / birds'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ost plural possessives are formed by adding an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postroph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following the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-ending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of the plural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bird's territory = the territory of the bird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birds' territory = the territory of the birds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Collective Noun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lective nouns refer to groups of peo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 things. Collective nouns can usually 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unted; therefore, they have plural form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amples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erd gang staff bunch stat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erds gangs staffs bunches state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669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What is a noun?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: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 noun is any word which names a person, place, thing, idea, animal, quality, or activity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78483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unt and Collective Nouns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55280" y="2565360"/>
            <a:ext cx="77770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unt Noun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unt nouns refer to anything which can be counted. They have a singular form and a plural form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8218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amples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erson - Jennifer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lace – downtow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ng - tabl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dea – equali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nimal - gopher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quality – heigh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ctivity - navigation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ypes of Nouns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per nou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re the names of specific things, people, or places, such a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hicoutim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hrist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They usually begin with a capital letter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mmon nou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re general names such a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ers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ans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an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boo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They can be either concrete or abstrac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crete nou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efer to things which you can sense such a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loc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elepho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bstract nou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efer to ideas or qualities such a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liber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ru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How to form Plural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686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plural usually ends in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-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ingular: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car plan dollar piece apple dot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lural: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cars plans dollars pieces apples dots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st nouns ending in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h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, or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h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require an -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suffix to be plural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ingular: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bus latch wish potato hero echo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lural: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buses latches wishes potatoes heroes echoes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ouns ending in a consonant followed by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become plural by changing the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y to i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and adding -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e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ingular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worry story apology spy myste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lural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worries stories apologies spies mysterie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rregular count nouns do not form their plurals using the rules stated above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ingular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man goose mouse crisis child ox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lural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men geese mice crises children oxe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362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Possessive Nouns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ouns can also be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ossessive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The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ossessiv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expresses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ownership,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usually of the following noun, and often corresponds to a structure with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of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ample: Khan's wrath = the wrath of Kha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15:25:52Z</dcterms:created>
  <dc:creator>Administrator</dc:creator>
  <dc:description/>
  <dc:language>en-US</dc:language>
  <cp:lastModifiedBy>Administrator</cp:lastModifiedBy>
  <dcterms:modified xsi:type="dcterms:W3CDTF">2006-11-22T14:59:37Z</dcterms:modified>
  <cp:revision>21</cp:revision>
  <dc:subject/>
  <dc:title>The Parts of Speech</dc:title>
</cp:coreProperties>
</file>