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819-806F-4B3D-80C7-3A7F0C1B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8728-1977-4A48-8F15-AEC2CC25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AF5-0D57-463F-A305-740C11FE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D0A0-3D00-4FB4-83A1-432DED71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A6F-D061-4117-A524-320F806B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118-E00C-4032-81D9-80A083FE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702D-E825-4F73-B0C0-E25375B6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5E0-CE4B-4513-8C2F-E9534B19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12B-100F-4CF9-AECF-9100DA59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8EF-5EA4-4B13-93A3-36F3EBB6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2B29-9370-46F9-AA50-C151CFC5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FDE-79CB-47BB-870B-9907CA8D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670E-5CE5-4178-88CA-BEB3FEEFE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Parts of Spee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PARTS OF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mes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a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d an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no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s the place of a noun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u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ifies a noun or pronoun. He is a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exica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r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action or state of being. Ada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as m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ifies a verb, adjective, or adverb. We lef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ates a noun or pronoun to another word. We looke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words or groups of words. Bill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will 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terj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s strong feeling.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Ouch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arm h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4534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7:23:19Z</dcterms:created>
  <dc:creator>Administrator</dc:creator>
  <dc:description/>
  <dc:language>en-US</dc:language>
  <cp:lastModifiedBy>robert.gellert</cp:lastModifiedBy>
  <dcterms:modified xsi:type="dcterms:W3CDTF">2008-12-05T16:01:44Z</dcterms:modified>
  <cp:revision>11</cp:revision>
  <dc:subject/>
  <dc:title>The Parts of Speech</dc:title>
</cp:coreProperties>
</file>