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1757-7A1F-414F-B163-5FE57F95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D0BB-8A91-4CB9-BE20-9BEE40CF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FEAE-EAD6-4A4B-9A9C-9FFB2FE8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3D41-D7C3-4804-BA99-CB44916E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CA22-EE62-4F19-9E83-9A5D4902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0F4E-93F5-4263-83EB-BD0E3740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4752-8E71-4D16-A711-4761FE5E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9291-A4A6-4A0D-8F0E-E8573126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8047-2969-4989-B7FF-B6D81DAF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1D2F-0341-4A42-AE2C-FFACF312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5C3D-DFAC-4E8E-B20D-9A898799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8151-9123-40CA-B0B2-C01C2DCC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0F86-1895-4482-83E7-536B4C2F4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Parts of Spee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 OF PARTS OF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mes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Ma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d an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no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kes the place of a noun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u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d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ifies a noun or pronoun. He is a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Mexica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r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action or state of being. Ada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has m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dver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ifies a verb, adjective, or adverb. We lef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a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lates a noun or pronoun to another word. We looked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oins words or groups of words. Bill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e will c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terj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s strong feeling.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Ouch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arm hu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4534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7:23:19Z</dcterms:created>
  <dc:creator>Administrator</dc:creator>
  <dc:description/>
  <dc:language>en-US</dc:language>
  <cp:lastModifiedBy>robert.gellert</cp:lastModifiedBy>
  <dcterms:modified xsi:type="dcterms:W3CDTF">2008-12-05T16:01:44Z</dcterms:modified>
  <cp:revision>11</cp:revision>
  <dc:subject/>
  <dc:title>The Parts of Speech</dc:title>
</cp:coreProperties>
</file>