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989-CA05-4EC5-BB47-F51D8537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5B0-4624-489D-9EDA-328F5ABA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FB5-4730-4CDD-AEB6-EE7CA77B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DBF-AF52-4DD6-9D6A-CCB2E184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5AB-9974-4D29-8C93-98A0A1E1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99E-EA1D-47BE-8F2B-B2631B9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5D8-5EC0-41E8-AE20-87EFE19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B4B-FB97-4435-8D86-83CF983B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8BC-3418-4694-9C3A-7B9C87BF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8D1-51A5-4795-92DF-AC4BA340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BF1-6A3D-4F73-840E-21EF736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CAB-C3EF-4D2A-924D-29453BF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86DF-3441-4C26-BB49-80A34220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entence fragments or run-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verbs agree with their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pronoun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dverbs and adjective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grammar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apitalise first words and all proper nouns and adjective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spell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ach sentence have the proper end m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rks such as colons, semicolons, apostrophes, hyphens, and quotation marks us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5:00Z</dcterms:created>
  <dc:creator>Administrator</dc:creator>
  <dc:description/>
  <dc:language>en-US</dc:language>
  <cp:lastModifiedBy>Administrator</cp:lastModifiedBy>
  <dcterms:modified xsi:type="dcterms:W3CDTF">2007-09-12T12:55:14Z</dcterms:modified>
  <cp:revision>3</cp:revision>
  <dc:subject/>
  <dc:title>Editing</dc:title>
</cp:coreProperties>
</file>