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45E-6854-43CA-8CFF-9D7DB38D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2B2-321B-4230-9596-B2272D51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B1D-C74A-4766-B102-AB6DB09F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694-0FAC-43F9-A663-F23FDEB0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C7F-956B-414F-998B-84C85BA0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756-8D79-40B3-B4EF-BCFB9AE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29B-1BE6-467D-A47D-C8B4CEBE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58A-D9A6-42DE-885F-567901DA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91E-2C86-48F5-971C-FF073677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9A8-5536-4A35-BA8D-9340B486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4F8-4CE9-407E-BC9E-D743D59C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1BF-0382-4674-81DD-5810D906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62E1-5AE3-4F36-987C-226248DF9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and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sentence fragments or run-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ll verbs agree with their sub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pronoun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dverbs and adjectives correc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grammar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apitalise first words and all proper nouns and adjective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spond to all “spell check” prom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c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each sentence have the proper end m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marks such as colons, semicolons, apostrophes, hyphens, and quotation marks us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2:25:00Z</dcterms:created>
  <dc:creator>Administrator</dc:creator>
  <dc:description/>
  <dc:language>en-US</dc:language>
  <cp:lastModifiedBy>Administrator</cp:lastModifiedBy>
  <dcterms:modified xsi:type="dcterms:W3CDTF">2007-09-12T12:55:14Z</dcterms:modified>
  <cp:revision>3</cp:revision>
  <dc:subject/>
  <dc:title>Editing</dc:title>
</cp:coreProperties>
</file>