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2DC-0499-4FCE-A655-1BD3016E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41C-40F2-4A55-8B17-F3D4F45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5A2-4DE5-49D3-AF91-D386EE99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2FB-365C-460C-9A32-7F82DEC5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C68-E050-4285-BD61-8ADD6992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EDF-4A24-407B-8EE4-7F39171A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333-FC2A-48C5-B7F2-FE6C60D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E5B-E68B-436F-94F5-F215D901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3A0-037A-441E-8C36-04B9D57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AA1-3E13-4F3A-8840-B3D7FF45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113-3CFB-4209-8F66-B1F4DD4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7A4-5443-4CF8-B11C-22EA0AAB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C325-95AD-4559-96E3-8FD381504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entence fragments or run-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verbs agree with their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pronoun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dverbs and adjective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grammar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apitalise first words and all proper nouns and adjective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spell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ach sentence have the proper end m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rks such as colons, semicolons, apostrophes, hyphens, and quotation marks us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5:00Z</dcterms:created>
  <dc:creator>Administrator</dc:creator>
  <dc:description/>
  <dc:language>en-US</dc:language>
  <cp:lastModifiedBy>Administrator</cp:lastModifiedBy>
  <dcterms:modified xsi:type="dcterms:W3CDTF">2007-09-12T12:55:14Z</dcterms:modified>
  <cp:revision>3</cp:revision>
  <dc:subject/>
  <dc:title>Editing</dc:title>
</cp:coreProperties>
</file>