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7089-9581-4D04-BCF7-C6DA71EC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92CD-9C9A-46CB-AB7A-5E717981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BD81-544B-4418-9D05-0376EE176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F313-1080-44EC-846C-E659F78D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5DA6-216C-4BA6-8432-855F4199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46CF-7270-4F2A-BB38-D1CAE476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23AC-B8B2-46A8-80BE-14DF5AB9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8E82-E14D-44FC-A2E9-CDEDCD0F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39EB-7F30-4632-9A3A-602CFB32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A1A4-2A4F-4002-B7A8-7A9194A3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35BF-1139-4D70-8D61-EA2D4FA2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E6F5-6465-41D0-AA3F-7F8E833C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CA44-FFCD-4395-82AE-6911E473E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mmar and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re any sentence fragments or run-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ll verbs agree with their subj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used pronouns correct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used adverbs and adjectives correct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respond to all “grammar check” promp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capitalise first words and all proper nouns and adjectives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respond to all “spell check” promp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nct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each sentence have the proper end ma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marks such as colons, semicolons, apostrophes, hyphens, and quotation marks used corre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2:25:00Z</dcterms:created>
  <dc:creator>Administrator</dc:creator>
  <dc:description/>
  <dc:language>en-US</dc:language>
  <cp:lastModifiedBy>Administrator</cp:lastModifiedBy>
  <dcterms:modified xsi:type="dcterms:W3CDTF">2007-09-12T12:55:14Z</dcterms:modified>
  <cp:revision>3</cp:revision>
  <dc:subject/>
  <dc:title>Editing</dc:title>
</cp:coreProperties>
</file>