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60B3-FB17-4928-8D57-C5AF27109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D89A-053D-4842-8A94-E2F6F04F7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A5DE-763E-416A-8949-BDED252E6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9C8C-41E0-4ACC-8887-D187E2B9E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8866-74A0-4BA8-A512-2816B4709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A1F4-C20A-4A73-B688-6AF8296AE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8EC7-BD55-42DC-89A1-B729B7FA2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4E69-7DF6-4098-83A8-C57F17D56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66A7-3FD7-4A1F-91B4-EA4D2C187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C5A7-5715-46D9-9318-406BB26CD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FC85-5ACF-4178-A3E0-04076ED15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06AD-8054-4965-9AE5-D0F9281BA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FCB6C-0390-40A5-B3FD-31C60EC365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cess Writing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S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EARCHING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FOR THINGS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O FIX!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S REVISING?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7631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evising is . .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ing decisions about how you want to improve your writing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king at your writing from a different point of view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cking places where your writing could be clearer, more interesting, more informative and more convinc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THODS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3520" y="68580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.R.R.R. -  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his method allows you to make four types of changes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ding: What else does the reader need to know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rranging: Is the information in the most logical and most effective ord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oving: What extra details or unnecessary bits of information are in this piece of wr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placing: What words or details could be replaced by clearer or stronger express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VISING TIP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Ask yourself these questions . 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you read it out loud without stumbling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es every word and action count?  There should be a reason why a character acts or speaks in a certain way. 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 series of events logical?  Do they relat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it clear what your goal or your main character's goal is throughout the piece of wri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vivid/descriptive words used to describe characters and/or event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your train of thought clear?  Are there any tangent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you use a variety of verbs throughout the piece?  (Something instead of "SAID"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it wordy and redundant?  Are you using the same words and phrases over and over agai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re a catchy introduction?  Does the conclusion leave the reader thinking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supporting details suppor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n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topic sentence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ha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paragraph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transitional devices used throughou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1T14:29:17Z</dcterms:created>
  <dc:creator>Administrator</dc:creator>
  <dc:description/>
  <dc:language>en-US</dc:language>
  <cp:lastModifiedBy>Administrator</cp:lastModifiedBy>
  <dcterms:modified xsi:type="dcterms:W3CDTF">2007-09-12T13:06:12Z</dcterms:modified>
  <cp:revision>6</cp:revision>
  <dc:subject/>
  <dc:title>Process Writing 3</dc:title>
</cp:coreProperties>
</file>