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3EB-212F-4C36-A589-FD72F7A2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5B2A-5AE3-4041-B4D4-A3C75377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20D-71B5-4027-A8C6-841817AC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68E-EC40-4B0F-8487-CDB7EDF3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BFC-761B-404C-A48E-29902D85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4CC-2D64-4535-AFFC-3E3CDB46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196-D479-40B4-B8D0-1143FB2D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8A0-119F-4D3C-8931-C751D277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2C78-E7AD-453C-9DFB-4AD34E83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F9C-38BE-4912-891B-08DC6398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7A7-BBB3-4A53-8B77-956F5717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F7F-6BAF-4CEB-9EA3-370081F2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A07F-492F-4D83-A58F-EDEE02420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Writing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ARCHING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 THING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FIX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REVISING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vising is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decisions about how you want to improve your wri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at your writing from a different point of vie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ing places where your writing could be clearer, more interesting, more informative and more convi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R.R.R. - 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s method allows you to make four types of chang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ing: What else does the reader need to kn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ranging: Is the information in the most logical and most effective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ving: What extra details or unnecessary bits of information are in this piece of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lacing: What words or details could be replaced by clearer or stronger expres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VISING TIP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sk yourself these questions . 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read it out loud without stumbl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every word and action count?  There should be a reason why a character acts or speaks in a certain way.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ries of events logical?  Do they relat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clear what your goal or your main character's goal is throughout the piece of wri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vivid/descriptive words used to describe characters and/or ev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your train of thought clear?  Are there any tang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use a variety of verbs throughout the piece?  (Something instead of "SAID"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wordy and redundant?  Are you using the same words and phrases over and over agai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catchy introduction?  Does the conclusion leave the reader think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upporting details suppor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opic sentenc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paragrap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ransitional devices used through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4:29:17Z</dcterms:created>
  <dc:creator>Administrator</dc:creator>
  <dc:description/>
  <dc:language>en-US</dc:language>
  <cp:lastModifiedBy>Administrator</cp:lastModifiedBy>
  <dcterms:modified xsi:type="dcterms:W3CDTF">2007-09-12T13:06:12Z</dcterms:modified>
  <cp:revision>6</cp:revision>
  <dc:subject/>
  <dc:title>Process Writing 3</dc:title>
</cp:coreProperties>
</file>