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642-4F4B-4657-8374-AB152BAE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66DD-1169-487C-87CA-21618CDF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0E7-1E3C-4570-9DF4-DEF85420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F797-70F3-43D8-BBB1-A009DF12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405-DBC7-43BF-B30C-F8D6B757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5E3B-6436-4F38-87F8-8653CE86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8C2-7DDF-47C6-BCB6-16920B26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67B4-0EEB-40C1-9D88-896E5B92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2A8F-C18B-4813-B2A3-F98C97ED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F92-35FF-413B-9839-C3563F83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D79C-A920-4246-ACB0-3BE3F2FA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750-A561-42A3-BE41-84F04C82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D7AC-CEFB-4FF7-B6CB-8606460CB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Writing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ARCHING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 THING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FIX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REVISING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vising is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decisions about how you want to improve your wri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at your writing from a different point of vie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ing places where your writing could be clearer, more interesting, more informative and more convi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R.R.R. - 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s method allows you to make four types of chang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ing: What else does the reader need to kn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ranging: Is the information in the most logical and most effective o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ving: What extra details or unnecessary bits of information are in this piece of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lacing: What words or details could be replaced by clearer or stronger expres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VISING TIP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sk yourself these questions . 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read it out loud without stumbl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every word and action count?  There should be a reason why a character acts or speaks in a certain way.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ries of events logical?  Do they relat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clear what your goal or your main character's goal is throughout the piece of wri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vivid/descriptive words used to describe characters and/or ev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your train of thought clear?  Are there any tang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use a variety of verbs throughout the piece?  (Something instead of "SAID"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wordy and redundant?  Are you using the same words and phrases over and over agai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catchy introduction?  Does the conclusion leave the reader think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upporting details suppor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opic sentenc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paragrap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ransitional devices used through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4:29:17Z</dcterms:created>
  <dc:creator>Administrator</dc:creator>
  <dc:description/>
  <dc:language>en-US</dc:language>
  <cp:lastModifiedBy>Administrator</cp:lastModifiedBy>
  <dcterms:modified xsi:type="dcterms:W3CDTF">2007-09-12T13:06:12Z</dcterms:modified>
  <cp:revision>6</cp:revision>
  <dc:subject/>
  <dc:title>Process Writing 3</dc:title>
</cp:coreProperties>
</file>