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14E-FAB0-4894-AFDB-90D50258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B03-3858-4EE7-B624-F7E37F6D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E65-834F-4E32-8BDA-774FCD60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1B2-4724-48E4-A886-8FBF8F36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247-29FE-4E88-ACA2-085B27A0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EC3-5B87-4F56-9C8B-659B18D5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BA7-C0E5-437B-9E4D-62970384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08A-1383-4445-9CC2-C5C0D3E5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09D-C2BA-43E7-B144-24B934D4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1EC-7FCB-428F-8340-83BFE075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699-DB0C-44DE-862A-B4C2392B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656-294F-4D7D-BBDE-B7E2A336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A4E3-4BB5-40B0-A700-79201EBCA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Writing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ARCHING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 THING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FIX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EVISING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vising is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decisions about how you want to improve your wri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at your writing from a different point of vie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ing places where your writing could be clearer, more interesting, more informative and more convi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R.R.R. - 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method allows you to make four types of chang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ing: What else does the reader need to k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ranging: Is the information in the most logical and most effective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ving: What extra details or unnecessary bits of information are in this piece of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lacing: What words or details could be replaced by clearer or stronger expres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VISING TI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sk yourself these questions . 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read it out loud without stumbl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every word and action count?  There should be a reason why a character acts or speaks in a certain way.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ries of events logical?  Do they rela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clear what your goal or your main character's goal is throughout the piece of wr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vivid/descriptive words used to describe characters and/or ev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your train of thought clear?  Are there any tang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use a variety of verbs throughout the piece?  (Something instead of "SAID"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wordy and redundant?  Are you using the same words and phrases over and over agai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catchy introduction?  Does the conclusion leave the reader think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upporting details suppor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opic sente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paragrap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ransitional devices used through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4:29:17Z</dcterms:created>
  <dc:creator>Administrator</dc:creator>
  <dc:description/>
  <dc:language>en-US</dc:language>
  <cp:lastModifiedBy>Administrator</cp:lastModifiedBy>
  <dcterms:modified xsi:type="dcterms:W3CDTF">2007-09-12T13:06:12Z</dcterms:modified>
  <cp:revision>6</cp:revision>
  <dc:subject/>
  <dc:title>Process Writing 3</dc:title>
</cp:coreProperties>
</file>