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9D4-624E-45CE-BCF0-E4CEB37E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0D5-4059-44EE-91AD-E1A51E96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1C1-3E58-4E66-8736-2FF96070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AAD-786E-4D31-AFFD-6D420B06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D9C-A325-456B-8E2D-EB40CD07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A04-2838-4E84-A12B-59209D35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59F-9001-4E6D-9D01-E8580C6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CF4-3E07-4A89-8870-95B71CE5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044-18A4-4948-933B-8DF5DFCB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3DE-B981-4A41-9605-CD60F2D0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048-C46A-4E5B-BCCF-2F2ED88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A30-C1A3-49B9-8555-C76ED7D1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7E24-0FE2-435A-86A9-01EA30817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begin you should 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y topic? My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my audi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s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m should I u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I organize my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tage of the writing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writing is all of the planning you do before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choosing a topic, thinking about the topic, writing your ideas as you think of them, gathering and grouping your  ideas, and putting them in a 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ways can I pre-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ing - individually or as a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lists of your ideas and details, make an idea web or make a graphic organi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 OF I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do I get ideas in the first pl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n interview based on your top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- radio, TV,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 - movies and document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brainsto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 to lit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4:59:19Z</dcterms:created>
  <dc:creator>Administrator</dc:creator>
  <dc:description/>
  <dc:language>en-US</dc:language>
  <cp:lastModifiedBy>Robert.Gellert</cp:lastModifiedBy>
  <dcterms:modified xsi:type="dcterms:W3CDTF">2009-09-23T13:55:05Z</dcterms:modified>
  <cp:revision>14</cp:revision>
  <dc:subject/>
  <dc:title>Process Writing</dc:title>
</cp:coreProperties>
</file>