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CEB-AD1F-4DE3-95E5-0120EC44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5C6-C457-42BB-9F54-C865DB3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2D4-C184-43F5-905A-A5964CD0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F34-DF03-42F6-8EC2-2AA04ED9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919-0ADB-421C-8D27-9AAC0BD0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1F2-DB77-4D7F-B3E0-C393FD4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3E8-C5FE-48BA-BAE2-E117C31C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308-2415-4792-A242-423D565F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0CC-F719-4DAE-A572-3AE4890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457-11F8-49BD-B2A9-796BA8C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1D-974D-4FA6-A0C9-88B96F1B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263-1031-4B3B-A55C-1FDF1E4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5A33-19D3-4CA9-9221-D843F27F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begin you should 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topic? My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y audi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s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I 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I organize m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age of the writing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 is all of the planning you do before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choosing a topic, thinking about the topic, writing your ideas as you think of them, gathering and grouping your  ideas, and putting them in a 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ys can I pre-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ing - individually or as a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sts of your ideas and details, make an idea web or make a graphic organ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 OF I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I get ideas in the first pl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n interview based on your top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- radio, TV,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- movies and document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brainsto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 to lit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4:59:19Z</dcterms:created>
  <dc:creator>Administrator</dc:creator>
  <dc:description/>
  <dc:language>en-US</dc:language>
  <cp:lastModifiedBy>Robert.Gellert</cp:lastModifiedBy>
  <dcterms:modified xsi:type="dcterms:W3CDTF">2009-09-23T13:55:05Z</dcterms:modified>
  <cp:revision>14</cp:revision>
  <dc:subject/>
  <dc:title>Process Writing</dc:title>
</cp:coreProperties>
</file>