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388-6400-4097-9A9C-81C0B3E0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C7A-309C-423A-93F1-40CC666B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677-C8C2-4DD5-985C-11202E2C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28B-B8E5-4AEB-BDD5-26E74D1F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EC7-BBB2-4062-9089-832959C4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1C2-AB30-467C-84E3-42B3EF1A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2DC-15DC-4E10-88D9-ECC12DF5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928-FC2F-4721-BE30-8F5B973A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C6A-2F23-41FA-82C5-CFB790F8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23D-D4FD-4FDF-9914-3FCA1540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0CC-9E95-473C-843A-3137382D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942-4354-4517-862B-1FF13E9B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8D1A-879D-40A5-8C9F-CBF4B8DD6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begin you should 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topic? My purpo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my audi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s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m should I u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I organize m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tage of the writing proces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wr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writing is all of the planning you do before you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choosing a topic, thinking about the topic, writing your ideas as you think of them, gathering and grouping your  ideas, and putting them in a 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ways can I pre-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ing - individually or as a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ists of your ideas and details, make an idea web or make a graphic organi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 OF I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do I get ideas in the first pl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n interview based on your top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- radio, TV,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- movies and document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brainsto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ing to lit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4:59:19Z</dcterms:created>
  <dc:creator>Administrator</dc:creator>
  <dc:description/>
  <dc:language>en-US</dc:language>
  <cp:lastModifiedBy>Robert.Gellert</cp:lastModifiedBy>
  <dcterms:modified xsi:type="dcterms:W3CDTF">2009-09-23T13:55:05Z</dcterms:modified>
  <cp:revision>14</cp:revision>
  <dc:subject/>
  <dc:title>Process Writing</dc:title>
</cp:coreProperties>
</file>