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D847-6769-4AF3-8182-BBA9A1B4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265A-1B0E-40A7-8B09-3D5C539B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EAC-3446-4789-89CE-0C94CEBD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47B-F5A4-4DDA-BCAC-008C31AD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345-C978-4077-994F-E8FFD6F3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D1C-A5B0-4FF2-A9E2-C10D1BCA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7EE2-33FE-49AE-B33D-21F95211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39D-E951-4260-B6BA-63A50950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A4F-737B-4038-B3BC-7D0D7A13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BA5-B897-4057-8745-B4FC27E1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4EC-0C7F-42D5-972F-058B422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65D-BD59-4963-82CE-5A8BEA1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6AF8-F948-4E82-8F05-5F5FA288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and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entence fragments or run-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verbs agree with their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pronoun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dverbs and adjective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grammar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apitalise first words and all proper nouns and adjective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spell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ach sentence have the proper end ma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rks such as colons, semicolons, apostrophes, hyphens, and quotation marks us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2:25:00Z</dcterms:created>
  <dc:creator>Administrator</dc:creator>
  <dc:description/>
  <dc:language>en-US</dc:language>
  <cp:lastModifiedBy>Administrator</cp:lastModifiedBy>
  <dcterms:modified xsi:type="dcterms:W3CDTF">2007-09-12T12:55:14Z</dcterms:modified>
  <cp:revision>3</cp:revision>
  <dc:subject/>
  <dc:title>Editing</dc:title>
</cp:coreProperties>
</file>