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53FB-25B7-4A90-AAC3-3656A474F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8FC1-34C4-4737-A16B-AA3A7AF08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E08A-81A7-4F6C-863E-EF17E0866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C32A-C45F-47C8-9487-58A44F3DF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2778-38A8-42CD-8F58-30BD54E24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7033-B255-4A44-B050-11C0C0FD2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EA5A-0466-4519-B239-C244AFEF8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ED39-1261-473F-9842-25AB7FDA2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8F10-10CD-419E-AFB5-92FF98941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5D1B-1535-470B-9DF4-6E5E5830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0C2F-11BF-436C-BEC7-3C9BF10B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EF48-181B-49C6-B837-C0F4D0E9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1095B-A16D-448A-BCA6-387A803E1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d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mmar and U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ere any sentence fragments or run-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all verbs agree with their subjec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you used pronouns correct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you used adverbs and adjectives correct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 respond to all “grammar check” promp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 capitalise first words and all proper nouns and adjectives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 respond to all “spell check” promp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nct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each sentence have the proper end ma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marks such as colons, semicolons, apostrophes, hyphens, and quotation marks used correc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12:25:00Z</dcterms:created>
  <dc:creator>Administrator</dc:creator>
  <dc:description/>
  <dc:language>en-US</dc:language>
  <cp:lastModifiedBy>Administrator</cp:lastModifiedBy>
  <dcterms:modified xsi:type="dcterms:W3CDTF">2007-09-12T12:55:14Z</dcterms:modified>
  <cp:revision>3</cp:revision>
  <dc:subject/>
  <dc:title>Editing</dc:title>
</cp:coreProperties>
</file>