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E83-8163-4E8B-9854-11B64D75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D7E-1FAD-4076-81B7-FC3AE455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15D-9E2C-4902-8B5C-A4EF240B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EA4-B507-43E9-885D-2355F53F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71A-B820-46A7-9D4E-1CE22D03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7A0-530B-4869-A5C1-4C8D4561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5E6-2EBB-40E2-AAB4-66704044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CF5-5006-4880-AA72-C0C03A58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CF6-2254-40FD-A7E0-80A091E4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894-54D4-45F8-AC93-CD47275F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C16-2787-4E7B-98CA-9C54397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225-E36F-4E5A-9514-AF76169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3B88-1885-413D-8526-E3BE1365C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ING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 THING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FIX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EVISING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vising is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ecisions about how you want to improve your wri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your writing from a different point of 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ing places where your writing could be clearer, more interesting, more informative and more convi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R.R.R. - 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method allows you to make four types of chang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ing: What else does the reader need to k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ranging: Is the information in the most logical and most effectiv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ving: What extra details or unnecessary bits of information are in this piece of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lacing: What words or details could be replaced by clearer or stronger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SING TI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k yourself these questions . 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read it out loud without stumbl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very word and action count?  There should be a reason why a character acts or speaks in a certain way.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ries of events logical?  Do they rel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clear what your goal or your main character's goal is throughout the piece of 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vivid/descriptive words used to describe characters and/or ev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your train of thought clear?  Are there any tang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use a variety of verbs throughout the piece?  (Something instead of "SAID"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wordy and redundant?  Are you using the same words and phrases over and over agai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catchy introduction?  Does the conclusion leave the reader think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upporting details suppo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sente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para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ransitional devices used through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4:29:17Z</dcterms:created>
  <dc:creator>Administrator</dc:creator>
  <dc:description/>
  <dc:language>en-US</dc:language>
  <cp:lastModifiedBy>Administrator</cp:lastModifiedBy>
  <dcterms:modified xsi:type="dcterms:W3CDTF">2007-09-12T13:06:12Z</dcterms:modified>
  <cp:revision>6</cp:revision>
  <dc:subject/>
  <dc:title>Process Writing 3</dc:title>
</cp:coreProperties>
</file>