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778-4F9C-4E23-9405-103080BC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DC4-A248-4A3E-B6F7-A4235F18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A7A-08CE-451E-B37B-79464A21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3BC-1E98-4EDD-9168-F6843AF8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3BB-277C-4B69-93E1-163F87E3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C5C-4230-4376-9A45-7E7AB419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01C-BC49-4446-BA43-41A0C50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5D2-9AA0-4771-9C31-6E30F7F1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B83-82BE-4978-82E7-05FB7A5D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FED-DEE9-4068-A026-2FB38253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1FC-0C4B-45CE-A2B2-003DFFB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B8D-AD09-407D-9214-517570E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79C7-701A-4D8F-A162-044B0A547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ING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THING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FIX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EVISING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vising i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ecisions about how you want to improve your wri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your writing from a different point of 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places where your writing could be clearer, more interesting, more informative and more convi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R.R.R. -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method allows you to make four types of chang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ing: What else does the reader need to k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ranging: Is the information in the most logical and most effectiv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ving: What extra details or unnecessary bits of information are in this piece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lacing: What words or details could be replaced by clearer or stronge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SING TI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k yourself these questions . 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ead it out loud without stumbl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very word and action count?  There should be a reason why a character acts or speaks in a certain way.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ries of events logical?  Do they rel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lear what your goal or your main character's goal is throughout the piece of 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vivid/descriptive words used to describe characters and/or ev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train of thought clear?  Are there any tang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se a variety of verbs throughout the piece?  (Something instead of "SAID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wordy and redundant?  Are you using the same words and phrases over and over ag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atchy introduction?  Does the conclusion leave the reader think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upporting details suppo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sente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para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ransitional devices used through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29:17Z</dcterms:created>
  <dc:creator>Administrator</dc:creator>
  <dc:description/>
  <dc:language>en-US</dc:language>
  <cp:lastModifiedBy>Administrator</cp:lastModifiedBy>
  <dcterms:modified xsi:type="dcterms:W3CDTF">2007-09-12T13:06:12Z</dcterms:modified>
  <cp:revision>6</cp:revision>
  <dc:subject/>
  <dc:title>Process Writing 3</dc:title>
</cp:coreProperties>
</file>