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526-1328-46D5-93F8-78BF3DD6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A9B-3A65-4670-AE68-573B4B42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7F1-F400-4F0A-8FDA-A6520CB3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9EE-7050-404D-A912-079C6577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D04-DA87-407B-98CE-C4904DF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876-122F-4835-8D82-DA5E63FB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D46-F6AA-4951-8111-920065CB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C81-8A60-4100-BC93-662E0593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26E-B4B9-4C44-8863-E8335091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B08-82BE-44BF-96C3-B614372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F3F-066A-4909-9287-819B5E7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793-1C0B-4009-B7CD-7D39206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2B3E-4DFC-42C1-9002-1300271A9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begin you should 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topic? My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y audi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s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should I 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I organize m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age of the writing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 is all of the planning you do before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choosing a topic, thinking about the topic, writing your ideas as you think of them, gathering and grouping your  ideas, and putting them in a 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ys can I pre-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ing - individually or as a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ists of your ideas and details, make an idea web or make a graphic organi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 OF I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I get ideas in the first pl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n interview based on your top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- radio, TV,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- movies and document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brainsto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 to lit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4:59:19Z</dcterms:created>
  <dc:creator>Administrator</dc:creator>
  <dc:description/>
  <dc:language>en-US</dc:language>
  <cp:lastModifiedBy>Robert.Gellert</cp:lastModifiedBy>
  <dcterms:modified xsi:type="dcterms:W3CDTF">2009-09-23T13:55:05Z</dcterms:modified>
  <cp:revision>14</cp:revision>
  <dc:subject/>
  <dc:title>Process Writing</dc:title>
</cp:coreProperties>
</file>