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1A6-C3BB-4C9E-A0BD-D52F2BFC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C96-4EA3-4C67-94D5-94DFAEEC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3D4-12ED-4262-983D-D61E7C07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1A8-8E0B-4E2A-90D3-AA80BBEE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743-811F-4D83-B25E-E6B87296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DD9-4310-49BB-A63C-B3E7B673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DE2-2D5B-4FD6-9828-172019B7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60F-CCEA-467C-BF95-E84F3DE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791-5A23-4EED-A81D-FDBFF787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807-7535-450E-9C37-0BC83C08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467-2F04-46D9-8825-D35F7041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712-85E2-4DB0-B5C6-32D892C2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426E-F52D-4307-8A61-4B489914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begin you should 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topic? My purpo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my audi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s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m should I u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I organize m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tage of the writing proces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wr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writing is all of the planning you do before you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choosing a topic, thinking about the topic, writing your ideas as you think of them, gathering and grouping your  ideas, and putting them in a 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ways can I pre-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ing - individually or as a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ists of your ideas and details, make an idea web or make a graphic organi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 OF I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do I get ideas in the first pl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n interview based on your top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- radio, TV,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- movies and document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brainsto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ing to lit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4:59:19Z</dcterms:created>
  <dc:creator>Administrator</dc:creator>
  <dc:description/>
  <dc:language>en-US</dc:language>
  <cp:lastModifiedBy>Robert.Gellert</cp:lastModifiedBy>
  <dcterms:modified xsi:type="dcterms:W3CDTF">2009-09-23T13:55:05Z</dcterms:modified>
  <cp:revision>14</cp:revision>
  <dc:subject/>
  <dc:title>Process Writing</dc:title>
</cp:coreProperties>
</file>