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D69-F2A4-42F3-ABD4-14F87357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7D9-A384-4840-96D6-CAED7006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CDA-9511-48CA-81D7-6FF8532D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6A5-6172-40E0-99DD-5D20B319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7A3-E6C9-4312-BF06-8538DCA0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638-9A6A-4143-8B7A-36A84D01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D32-A3D1-43FE-980F-146150F4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B47-00C7-4590-A7A9-FF31FC0F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CF3-9EC7-4207-93F7-5C76269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48E-04FB-4094-82FD-336E051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F59-8825-49C4-97C3-B4E0CCEA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1D2-B602-4FFC-86F2-5EC9BB97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06CA-E927-4037-96FE-7DC9EFA9B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rscavanaugh.org/digitalcamera/photostorytelling/storytelling_PhotoStory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Sto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riginal Photo Story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can do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igative report into an issue of interest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topic and choose from one of the forms previously men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plan all elements of the presentation, pictures, text, narration an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oto 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your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effects and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, save your project to both the U drive and your memory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rscavanaugh.org/digitalcamera/photostorytelling/storytelling_PhotoSto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tube.com/view_video.php?viewkey=be2ed7ab7fc46d5805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2:55:53Z</dcterms:created>
  <dc:creator>Administrator</dc:creator>
  <dc:description/>
  <dc:language>en-US</dc:language>
  <cp:lastModifiedBy>Robert.Gellert</cp:lastModifiedBy>
  <dcterms:modified xsi:type="dcterms:W3CDTF">2009-10-19T12:01:14Z</dcterms:modified>
  <cp:revision>10</cp:revision>
  <dc:subject/>
  <dc:title>Photo Story Project</dc:title>
</cp:coreProperties>
</file>