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02A-3423-4D6F-98C3-39A04FA0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875-1B32-4B2F-8B83-52E597B5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CDC-6829-47E2-BBE2-91D84644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246-7480-4DAF-9653-15EFB25D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BDD-1763-41CA-A843-11725594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6C1-12C8-422D-8643-B89A27C5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C7F-2F6A-4B1D-B127-AFA0ED67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D31-15AE-47CE-A298-CC00892F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EB2-BBAD-4323-BA16-87B55579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D59-F331-4BE0-841C-82012606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60E-7D5C-4A05-BE12-05BA30A6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9DB-6DE0-4303-8330-7DC1AA2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017B-D539-418F-8718-BEAE5550F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rscavanaugh.org/digitalcamera/photostorytelling/storytelling_PhotoStory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 Stor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original Photo Story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can do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igative report into an issue of interest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topic and choose from one of the forms previously men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plan all elements of the presentation, pictures, text, narration an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oto 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e your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your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effects and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our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, save your project to both the U drive and your memory st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imag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rscavanaugh.org/digitalcamera/photostorytelling/storytelling_PhotoStory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tube.com/view_video.php?viewkey=be2ed7ab7fc46d5805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2:55:53Z</dcterms:created>
  <dc:creator>Administrator</dc:creator>
  <dc:description/>
  <dc:language>en-US</dc:language>
  <cp:lastModifiedBy>Robert.Gellert</cp:lastModifiedBy>
  <dcterms:modified xsi:type="dcterms:W3CDTF">2009-10-19T12:01:14Z</dcterms:modified>
  <cp:revision>10</cp:revision>
  <dc:subject/>
  <dc:title>Photo Story Project</dc:title>
</cp:coreProperties>
</file>