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B4E-7D89-43EA-AD4C-AF5BE522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BEA-77A3-4810-BBA6-E9EBEFF8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D46-D843-483C-8FC1-50090F8D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898-4191-4A0E-9593-61D63EC3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6E1-3D12-4416-A8D9-BFD3E97D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80C-05A9-4225-8658-58A1CE17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E79-6CAE-4F14-B532-C1839F63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EA9-25A5-4F7E-A32F-3071C946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49D-A7E5-4885-88C7-C87B17FA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9FC-B8A4-4C2B-9FD1-C017DC68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78D-7667-4606-BB68-A54CE37D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467-FA13-484C-9F03-E33013AF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B06-B5BB-4662-85FE-B00805A84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rscavanaugh.org/digitalcamera/photostorytelling/storytelling_PhotoStory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Sto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riginal Photo Story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can do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igative report into an issue of interest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topic and choose from one of the forms previously men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plan all elements of the presentation, pictures, text, narration an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oto 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your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effects and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, save your project to both the U drive and your memory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rscavanaugh.org/digitalcamera/photostorytelling/storytelling_PhotoSto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tube.com/view_video.php?viewkey=be2ed7ab7fc46d5805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2:55:53Z</dcterms:created>
  <dc:creator>Administrator</dc:creator>
  <dc:description/>
  <dc:language>en-US</dc:language>
  <cp:lastModifiedBy>Robert.Gellert</cp:lastModifiedBy>
  <dcterms:modified xsi:type="dcterms:W3CDTF">2009-10-19T12:01:14Z</dcterms:modified>
  <cp:revision>10</cp:revision>
  <dc:subject/>
  <dc:title>Photo Story Project</dc:title>
</cp:coreProperties>
</file>