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D92-E804-4F65-9CA7-3AA45B8E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7CF-BCEC-495D-A7F4-88B41EBF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34C-9052-4041-BBF6-2DCCA753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48E-779E-4F2D-AD44-C19963E8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8E2-566A-4DAD-81E1-0BE6DE3F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E65-3ED4-4627-9BCD-4DDB52E8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634-756F-4CFE-A73D-08A4408B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48E-9B96-41AC-9A8B-33C6F392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EC4-4AE4-46D5-B8DC-E1467645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C30-803E-4B23-9898-30BDD44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64F-54BC-4382-9245-BF3224C1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807-CC68-417C-ABD3-6D0FCF98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5991-30A5-4CB1-9B3B-C66A031D5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rscavanaugh.org/digitalcamera/photostorytelling/storytelling_PhotoStory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Sto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riginal Photo Story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can do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igative report into an issue of interest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topic and choose from one of the forms previously men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plan all elements of the presentation, pictures, text, narration an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oto 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your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effects and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, save your project to both the U drive and your memory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rscavanaugh.org/digitalcamera/photostorytelling/storytelling_PhotoSto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tube.com/view_video.php?viewkey=be2ed7ab7fc46d580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2:55:53Z</dcterms:created>
  <dc:creator>Administrator</dc:creator>
  <dc:description/>
  <dc:language>en-US</dc:language>
  <cp:lastModifiedBy>Robert.Gellert</cp:lastModifiedBy>
  <dcterms:modified xsi:type="dcterms:W3CDTF">2009-10-19T12:01:14Z</dcterms:modified>
  <cp:revision>10</cp:revision>
  <dc:subject/>
  <dc:title>Photo Story Project</dc:title>
</cp:coreProperties>
</file>