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EAE-BB32-485D-A027-989664D6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4FC-5034-4328-A8FD-A0A650F7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C2D-5492-48DC-A313-A8199385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AE0-EBF5-4566-89B3-3600CE4D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A01-AC38-4A87-9113-7F0650EC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EC7-35B7-4903-8293-EEDF595C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017-4AD6-4A53-B37E-02FAFA25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B91-9E18-4FE7-A5D1-803C7B6F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DFA-C0BA-4C34-B265-EDA6AD73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C2C-92BE-43AE-9F79-0948AD08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D63-BA5F-42E2-8276-165D1776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840-90B2-4E12-83C6-2843396A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768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4602-202F-401D-A480-0B833911E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rscavanaugh.org/digitalcamera/photostorytelling/storytelling_PhotoStory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 Stor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original Photo Story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can do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stigative report into an issue of interest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topic and choose from one of the forms previously mentio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plan all elements of the presentation, pictures, text, narration an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oto 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your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effects and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nar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, save your project to both the U drive and your memory st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rscavanaugh.org/digitalcamera/photostorytelling/storytelling_PhotoSto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tube.com/view_video.php?viewkey=be2ed7ab7fc46d5805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2:55:53Z</dcterms:created>
  <dc:creator>Administrator</dc:creator>
  <dc:description/>
  <dc:language>en-US</dc:language>
  <cp:lastModifiedBy>Robert.Gellert</cp:lastModifiedBy>
  <dcterms:modified xsi:type="dcterms:W3CDTF">2009-10-19T12:01:14Z</dcterms:modified>
  <cp:revision>10</cp:revision>
  <dc:subject/>
  <dc:title>Photo Story Project</dc:title>
</cp:coreProperties>
</file>