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DF1-81CD-4874-890D-A2912D6A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569-9302-4B10-857C-04625291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F26-961D-48A5-808C-E3E33951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E1D-B7C1-4A9C-94E4-E2C02D51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9B0-8C8C-428D-86A3-76D32733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7CD-02C0-4A2C-BACC-973A61F5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039-71FE-49C4-BEED-196CA10E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08E-60BA-4476-9A26-46562EAA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8C4-ED55-483D-90EC-310D31A3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82D-4A95-4C5E-88E3-E8B34EF6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7D1-2786-4CBE-8914-FD4ABD43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EA7-74B7-4464-9B74-04FCC859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768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4075-EE97-4C15-9DD4-5CA7FAAE4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rscavanaugh.org/digitalcamera/photostorytelling/storytelling_PhotoStory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 Stor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original Photo Story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can do one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vestigative report into an issue of interest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topic and choose from one of the forms previously mentio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ly plan all elements of the presentation, pictures, text, narration and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oto 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e your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your pho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effects and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nar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, save your project to both the U drive and your memory st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rscavanaugh.org/digitalcamera/photostorytelling/storytelling_PhotoStory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ertube.com/view_video.php?viewkey=be2ed7ab7fc46d5805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2:55:53Z</dcterms:created>
  <dc:creator>Administrator</dc:creator>
  <dc:description/>
  <dc:language>en-US</dc:language>
  <cp:lastModifiedBy>Robert.Gellert</cp:lastModifiedBy>
  <dcterms:modified xsi:type="dcterms:W3CDTF">2009-10-19T12:01:14Z</dcterms:modified>
  <cp:revision>10</cp:revision>
  <dc:subject/>
  <dc:title>Photo Story Project</dc:title>
</cp:coreProperties>
</file>