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F274-FE4E-4D6C-96C6-BDDE0673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1084-6FC3-4CD9-8E1C-BFC4226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AAEA-A2D2-492F-B257-3A4A474A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F220-839C-4D50-BBC8-1FD39016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F29E-FDC6-4537-AAF4-30B24728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E96E-38A0-4360-BDE2-02A70FA8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2BD9-0072-4B02-9B43-F967D372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1D96-81F5-4344-9A2D-DD7DDD74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7A51-686D-425D-BA87-777B86F4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C1E-3136-4C25-8F91-E8A6D112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4D35-FC56-4299-B1F9-6DF1E94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9840-9AA7-4B9B-8E25-9A38BB71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6EB-DB88-4AF8-92EE-AEE0824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2C39-A750-4C9A-8DD0-2D1732A4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F25-D219-4B86-BC69-EC253C06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297A-72E6-45D2-A437-D90581A9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5CA1-2613-4AFD-BDF6-AD401AA3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93E6-44C6-45EE-A40A-9F41DCA7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7295-B7C6-412D-965D-D4B355D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C9F2-976B-4FFA-980C-D9C9416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371B-5BEF-4854-BAD2-5F097FA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894E-B02F-4773-ACD4-AB49B36B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1B13-8CBC-408E-AB8C-9405591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C274-5F23-4E34-95FA-EEE2508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73F7-44CC-4ECB-A803-6782D9150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F4D7-581A-444C-B70E-A36D5F20F5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Guidelines for Judging a Talk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Purpose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hat was the purpose of the speech? Did the speaker succeed in his or her purpo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Development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as enough information presented about the subject?  Was there any unnecessary informa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Organisation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 Was the information well organised? Did the ideas flow logicall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Topic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Did the speaker make the point of the speech cl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Eye Contact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look directly at the aud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ost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stand straight? Did he or she appear relax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Voic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as the speaker’s voice easy to hear?  Did she or he vary the tone, volume and p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Gestures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ere the speakers gestures natural?  Were the gestures well coordinated with the demons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reparation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have good knowledge of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Evaluating Spee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Be constructive, not destru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Never criticise people, only behaviou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mit your critic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mment on specific aspects of content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eliv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ark She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95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i="1" lang="en-CA" sz="1800" spc="-1" strike="noStrike">
                <a:solidFill>
                  <a:srgbClr val="ffffff"/>
                </a:solidFill>
                <a:latin typeface="Garamond"/>
              </a:rPr>
              <a:t>Content                                          Present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Name   Introduction    Body   Conclusion        Non-verbal   Verbal   To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_____          ______      _____     _______               ______       _____    _____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3:18:08Z</dcterms:created>
  <dc:creator>Administrator</dc:creator>
  <dc:description/>
  <dc:language>en-US</dc:language>
  <cp:lastModifiedBy>Administrator</cp:lastModifiedBy>
  <dcterms:modified xsi:type="dcterms:W3CDTF">2006-04-10T16:55:36Z</dcterms:modified>
  <cp:revision>4</cp:revision>
  <dc:subject/>
  <dc:title>Guidelines for Judging a Talk</dc:title>
</cp:coreProperties>
</file>