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A0A3A-BC22-4478-A7A6-F4B8C6C2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9ED7-E5FB-4063-87F4-5F903FB9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A873-7055-4B8F-AF65-180AA17D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3720-4643-4952-A67B-147D4181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7757-CC8D-42F4-BCED-7AC21A7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39BF-6C37-485E-8833-E030E2A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BE60-6A7D-4AF3-8536-34CADA05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920-70B0-4397-9A11-002F991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3DDD-79F7-4A94-BB0A-4235794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6C1-6E31-4863-9AC2-0011E861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BC55-EF0D-45A7-B064-2205A93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FCD8-B43C-4BFB-922A-E7E74080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E20F-6A86-4D8A-9463-A0D8288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5962-307C-412A-B1C4-81BE2BB3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33F-8059-4F42-BC30-7F75269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A281-EE76-43DD-90CA-96473FDC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B838-CA7C-4D82-9F7A-3FD2022E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D47B-1E67-4ED9-BF1B-59C4773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A4BB-0454-4651-B6B5-7854959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41AE-B779-4D5B-9F0B-6B12359A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96586-D2CB-4F8D-9763-275FE058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14FA-8B2A-4CB4-8A1D-529F4D7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8CB3-D815-4EC4-8B68-9689AF0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94DB-5BB8-4D74-A4DD-9E7EAF4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926-DAC5-4017-8930-532451701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3690-2C25-4330-95B0-4A9A836EB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Guidelines for Judging a Talk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Purpose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hat was the purpose of the speech? Did the speaker succeed in his or her purpo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Was enough information presented about the subject?  Was there any unnecessary informa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Organisation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 Was the information well organised? Did the ideas flow logical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CA" sz="2800" spc="-1" strike="noStrike">
                <a:solidFill>
                  <a:srgbClr val="ffffff"/>
                </a:solidFill>
                <a:latin typeface="Garamond"/>
              </a:rPr>
              <a:t>Topic</a:t>
            </a:r>
            <a:r>
              <a:rPr b="0" lang="en-CA" sz="2800" spc="-1" strike="noStrike">
                <a:solidFill>
                  <a:srgbClr val="ffffff"/>
                </a:solidFill>
                <a:latin typeface="Garamond"/>
              </a:rPr>
              <a:t>: Did the speaker make the point of the speech cl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Pres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91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Eye Contact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look directly at the audien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ost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stand straight? Did he or she appear relax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Voic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as the speaker’s voice easy to hear?  Did she or he vary the tone, volume and p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Gestures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Were the speakers gestures natural?  Were the gestures well coordinated with the demonstra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Preparation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: Did the speaker have good knowledge of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Evaluating Spee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Be constructive, not destruct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Never criticise people, only behavio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mit your critic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mment on specific aspects of content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eliv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e5e5ff"/>
                </a:solidFill>
                <a:latin typeface="Garamond"/>
              </a:rPr>
              <a:t>Mark She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95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Garamond"/>
              </a:rPr>
              <a:t>                            </a:t>
            </a:r>
            <a:r>
              <a:rPr b="1" i="1" lang="en-CA" sz="1800" spc="-1" strike="noStrike">
                <a:solidFill>
                  <a:srgbClr val="ffffff"/>
                </a:solidFill>
                <a:latin typeface="Garamond"/>
              </a:rPr>
              <a:t>Content                                          Present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Name   Introduction    Body   Conclusion        Non-verbal   Verbal   To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ffff"/>
                </a:solidFill>
                <a:uFillTx/>
                <a:latin typeface="Garamond"/>
              </a:rPr>
              <a:t>_____          ______      _____     _______               ______       _____    _____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3:18:08Z</dcterms:created>
  <dc:creator>Administrator</dc:creator>
  <dc:description/>
  <dc:language>en-US</dc:language>
  <cp:lastModifiedBy>Administrator</cp:lastModifiedBy>
  <dcterms:modified xsi:type="dcterms:W3CDTF">2006-04-10T16:55:36Z</dcterms:modified>
  <cp:revision>4</cp:revision>
  <dc:subject/>
  <dc:title>Guidelines for Judging a Talk</dc:title>
</cp:coreProperties>
</file>