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D8E6D-93CC-4205-A097-140BD171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363A2-9A59-46F6-BEC7-D6958D6C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A1316-D1D7-43B1-A038-C33620FA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E897E-01F9-4C19-ACF3-3D329A04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7FB5-3352-46E1-8706-023CFA76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C480-18F7-4402-9F30-BA2E1D21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2BE3-01EA-4B97-B081-34591A47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EA3F-8E34-49BD-81E8-72DC6FAB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C2B2-1927-47DF-A8A6-432C249F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A3C0-8FC1-4DFD-83DC-F07154E2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87E4-15D7-49D4-8CB1-4B02F13C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A7ACE-02B6-48EC-B421-943B76C3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FE8D-0613-451E-A816-2092388A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9A95-545A-4BE0-A649-265BD05F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A340-0C0E-4496-BA96-46A94A36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6220-4BB3-4665-99A3-8B05ADAC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2024-0739-4C44-822F-5D451FCD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14A35-41C1-430D-9EA7-4A4285C8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07F6C-1153-4F43-8F5B-2FE0063C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99A67-A00A-48FA-A8C7-8B1B5C24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1E6BF-981A-48F4-B41C-D7BDCA7F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07DC6-F844-4858-8642-6064E662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93CD7-35E9-4130-840D-BC0B0587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4F1B3-5E24-4FF6-BD6F-CFAA07D8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D394-2502-4E5B-9DDB-0043DD675D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46C1-0FA7-46AC-80EC-1BAE25F6A4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Guidelines for Judging a Talk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Cont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Purpose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What was the purpose of the speech? Did the speaker succeed in his or her purpo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Development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Was enough information presented about the subject?  Was there any unnecessary informatio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Organisation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 Was the information well organised? Did the ideas flow logicall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Topic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Did the speaker make the point of the speech cl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Pres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91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Eye Contact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Did the speaker look directly at the audien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Posture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Did the speaker stand straight? Did he or she appear relax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Voice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Was the speaker’s voice easy to hear?  Did she or he vary the tone, volume and p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Gestures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Were the speakers gestures natural?  Were the gestures well coordinated with the demonstra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Preparation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Did the speaker have good knowledge of the top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Evaluating Speech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Be constructive, not destruct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Never criticise people, only behaviou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Limit your criticis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Comment on specific aspects of content 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elive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Mark She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95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1" i="1" lang="en-CA" sz="1800" spc="-1" strike="noStrike">
                <a:solidFill>
                  <a:srgbClr val="ffffff"/>
                </a:solidFill>
                <a:latin typeface="Garamond"/>
              </a:rPr>
              <a:t>Content                                          Present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ffff"/>
                </a:solidFill>
                <a:uFillTx/>
                <a:latin typeface="Garamond"/>
              </a:rPr>
              <a:t>Name   Introduction    Body   Conclusion        Non-verbal   Verbal   Tot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ffff"/>
                </a:solidFill>
                <a:uFillTx/>
                <a:latin typeface="Garamond"/>
              </a:rPr>
              <a:t>_____          ______      _____     _______               ______       _____    _____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3:18:08Z</dcterms:created>
  <dc:creator>Administrator</dc:creator>
  <dc:description/>
  <dc:language>en-US</dc:language>
  <cp:lastModifiedBy>Administrator</cp:lastModifiedBy>
  <dcterms:modified xsi:type="dcterms:W3CDTF">2006-04-10T16:55:36Z</dcterms:modified>
  <cp:revision>4</cp:revision>
  <dc:subject/>
  <dc:title>Guidelines for Judging a Talk</dc:title>
</cp:coreProperties>
</file>