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0A45-1841-4A62-A06E-0D42738A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23DE-C760-4E9B-ABCD-3EEFE0DB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5C68-1E25-4B57-AC55-D18E1EBE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DD68-009C-4B7E-9DD4-F401093A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5796-2229-4AEB-9D60-F7F0D7D1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8B48-F1B4-46A5-BC29-D9328CDC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4315-4329-42D5-8834-DCD6A027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A9E0-0A11-4BDE-B9D5-9F7E5B93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9A81-E4DD-4E77-ADED-896602D5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8BE9-04DD-41E0-A1B1-64E5B40B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93F2-E8F2-43E9-9797-953AEFE5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EC5B-2694-4A2A-866E-B933B3D1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4747-5919-4873-8389-B808AEA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672D-9F1B-4A62-BF75-A062848E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35C6-FA00-44CE-8857-0C39E49F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724A-BE8A-4A0A-80A1-E49B9208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D9F9-1F6A-4401-B040-B44C0A41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3299-3BEE-4700-ABE0-67468813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A40D-207E-4B7E-AC60-2CD984D3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A3B3-9445-4D63-ABB3-BD04DCF7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8B47-2088-4287-8C0D-9680FADE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FC46-F747-4672-B68B-1DB99013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59B2-7E57-4350-89D0-38DF4B36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9B57-181E-4D15-BEC5-68B105DD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C05B-7A8C-4E85-8FC5-9DFF2918D6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7F2C-C425-4855-8625-D01AD2461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Guidelines for Judging a Talk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Cont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Purpose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hat was the purpose of the speech? Did the speaker succeed in his or her purpo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Development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as enough information presented about the subject?  Was there any unnecessary informa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Organisation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 Was the information well organised? Did the ideas flow logicall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Topic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Did the speaker make the point of the speech cl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Pres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Eye Contact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look directly at the audi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ost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stand straight? Did he or she appear relax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Voic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as the speaker’s voice easy to hear?  Did she or he vary the tone, volume and p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Gestures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ere the speakers gestures natural?  Were the gestures well coordinated with the demonstr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reparation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have good knowledge of the top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Evaluating Spee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Be constructive, not destruc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Never criticise people, only behaviou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mit your criticis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mment on specific aspects of content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eliv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Mark She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95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i="1" lang="en-CA" sz="1800" spc="-1" strike="noStrike">
                <a:solidFill>
                  <a:srgbClr val="ffffff"/>
                </a:solidFill>
                <a:latin typeface="Garamond"/>
              </a:rPr>
              <a:t>Content                                          Present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Name   Introduction    Body   Conclusion        Non-verbal   Verbal   Tot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_____          ______      _____     _______               ______       _____    _____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3:18:08Z</dcterms:created>
  <dc:creator>Administrator</dc:creator>
  <dc:description/>
  <dc:language>en-US</dc:language>
  <cp:lastModifiedBy>Administrator</cp:lastModifiedBy>
  <dcterms:modified xsi:type="dcterms:W3CDTF">2006-04-10T16:55:36Z</dcterms:modified>
  <cp:revision>4</cp:revision>
  <dc:subject/>
  <dc:title>Guidelines for Judging a Talk</dc:title>
</cp:coreProperties>
</file>