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A51FC8-D50E-4D11-AA46-7C131AFE2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E9332A-ACD5-4CF9-8F6F-8C4EDF1D4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6B4C1D-376C-4246-902F-B9127D06F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2D3A64-C56D-46CC-B75F-458A6D468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0E8CE-A6CA-4DDE-B66E-E0BE5A7D4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A3D35-30E5-4823-A47B-0B03BBE56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56794-4E2F-48C5-A500-BA71C3A96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37E72-5F69-4504-864A-11FF3308A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D2D5B-975F-433C-B617-4F1F29D67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E6C1C-DFC2-4696-B5EE-DF88793BA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E2B08-2BC8-481B-95A3-AFCA8D72A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F0E7EF-C4CE-45B7-A86E-819A769EA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BBD41-2ADD-4004-9092-DD5206A3D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9AFAA-3019-4CDA-86CB-6C3D5BAD2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0D8CF-99D1-4547-BFF0-4319C0217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40705-E84E-452B-85B0-C382B439D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9BDB4-6BAB-41CA-926D-4EBC9E5AE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ACA9B-7A3C-4097-AD16-D87BDF509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843C7C-9C02-4820-8FC6-836470989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BC7A5C-EA16-44DE-8BC4-9CEEA0180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698EA4-EE1E-4D43-A9E1-3E933BF40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A6B83-A48C-4FB1-A8EA-DA2AD13AD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7A4B2C-0148-4FB0-B750-42205310A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724AA4-2F0C-4A20-8EFC-912E6B6A2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B68BC-5CCF-47E3-9D22-8EB8EEEA203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F5A96-7817-4643-8642-7A33A6555A7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38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e5e5ff"/>
                </a:solidFill>
                <a:latin typeface="Garamond"/>
              </a:rPr>
              <a:t>Guidelines for Judging a Talk</a:t>
            </a:r>
            <a:br>
              <a:rPr sz="4400"/>
            </a:br>
            <a:br>
              <a:rPr sz="4400"/>
            </a:b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e5e5ff"/>
                </a:solidFill>
                <a:latin typeface="Garamond"/>
              </a:rPr>
              <a:t>Conten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ffff"/>
                </a:solidFill>
                <a:latin typeface="Garamond"/>
              </a:rPr>
              <a:t>Purpose</a:t>
            </a:r>
            <a:r>
              <a:rPr b="0" lang="en-CA" sz="2800" spc="-1" strike="noStrike">
                <a:solidFill>
                  <a:srgbClr val="ffffff"/>
                </a:solidFill>
                <a:latin typeface="Garamond"/>
              </a:rPr>
              <a:t>: What was the purpose of the speech? Did the speaker succeed in his or her purpose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ffff"/>
                </a:solidFill>
                <a:latin typeface="Garamond"/>
              </a:rPr>
              <a:t>Development</a:t>
            </a:r>
            <a:r>
              <a:rPr b="0" lang="en-CA" sz="2800" spc="-1" strike="noStrike">
                <a:solidFill>
                  <a:srgbClr val="ffffff"/>
                </a:solidFill>
                <a:latin typeface="Garamond"/>
              </a:rPr>
              <a:t>: Was enough information presented about the subject?  Was there any unnecessary information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ffff"/>
                </a:solidFill>
                <a:latin typeface="Garamond"/>
              </a:rPr>
              <a:t>Organisation</a:t>
            </a:r>
            <a:r>
              <a:rPr b="0" lang="en-CA" sz="2800" spc="-1" strike="noStrike">
                <a:solidFill>
                  <a:srgbClr val="ffffff"/>
                </a:solidFill>
                <a:latin typeface="Garamond"/>
              </a:rPr>
              <a:t>:  Was the information well organised? Did the ideas flow logically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en-CA" sz="2800" spc="-1" strike="noStrike">
                <a:solidFill>
                  <a:srgbClr val="ffffff"/>
                </a:solidFill>
                <a:latin typeface="Garamond"/>
              </a:rPr>
              <a:t>Topic</a:t>
            </a:r>
            <a:r>
              <a:rPr b="0" lang="en-CA" sz="2800" spc="-1" strike="noStrike">
                <a:solidFill>
                  <a:srgbClr val="ffffff"/>
                </a:solidFill>
                <a:latin typeface="Garamond"/>
              </a:rPr>
              <a:t>: Did the speaker make the point of the speech clear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e5e5ff"/>
                </a:solidFill>
                <a:latin typeface="Garamond"/>
              </a:rPr>
              <a:t>Present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9152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ffff"/>
                </a:solidFill>
                <a:latin typeface="Garamond"/>
              </a:rPr>
              <a:t>Eye Contact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: Did the speaker look directly at the audience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ffff"/>
                </a:solidFill>
                <a:latin typeface="Garamond"/>
              </a:rPr>
              <a:t>Posture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: Did the speaker stand straight? Did he or she appear relaxed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ffff"/>
                </a:solidFill>
                <a:latin typeface="Garamond"/>
              </a:rPr>
              <a:t>Voice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: Was the speaker’s voice easy to hear?  Did she or he vary the tone, volume and pace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ffff"/>
                </a:solidFill>
                <a:latin typeface="Garamond"/>
              </a:rPr>
              <a:t>Gestures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: Were the speakers gestures natural?  Were the gestures well coordinated with the demonstration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ffff"/>
                </a:solidFill>
                <a:latin typeface="Garamond"/>
              </a:rPr>
              <a:t>Preparation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: Did the speaker have good knowledge of the topic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e5e5ff"/>
                </a:solidFill>
                <a:latin typeface="Garamond"/>
              </a:rPr>
              <a:t>Evaluating Speech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Be constructive, not destructiv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Never criticise people, only behaviou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Limit your criticism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Comment on specific aspects of content or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deliver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e5e5ff"/>
                </a:solidFill>
                <a:latin typeface="Garamond"/>
              </a:rPr>
              <a:t>Mark Shee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78920" y="1700280"/>
            <a:ext cx="9597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ffff"/>
                </a:solidFill>
                <a:latin typeface="Garamond"/>
              </a:rPr>
              <a:t>                            </a:t>
            </a:r>
            <a:r>
              <a:rPr b="1" i="1" lang="en-CA" sz="1800" spc="-1" strike="noStrike">
                <a:solidFill>
                  <a:srgbClr val="ffffff"/>
                </a:solidFill>
                <a:latin typeface="Garamond"/>
              </a:rPr>
              <a:t>Content                                          Presentation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 u="sng">
                <a:solidFill>
                  <a:srgbClr val="ffffff"/>
                </a:solidFill>
                <a:uFillTx/>
                <a:latin typeface="Garamond"/>
              </a:rPr>
              <a:t>Name   Introduction    Body   Conclusion        Non-verbal   Verbal   Total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 u="sng">
                <a:solidFill>
                  <a:srgbClr val="ffffff"/>
                </a:solidFill>
                <a:uFillTx/>
                <a:latin typeface="Garamond"/>
              </a:rPr>
              <a:t>_____          ______      _____     _______               ______       _____    _____     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3:18:08Z</dcterms:created>
  <dc:creator>Administrator</dc:creator>
  <dc:description/>
  <dc:language>en-US</dc:language>
  <cp:lastModifiedBy>Administrator</cp:lastModifiedBy>
  <dcterms:modified xsi:type="dcterms:W3CDTF">2006-04-10T16:55:36Z</dcterms:modified>
  <cp:revision>4</cp:revision>
  <dc:subject/>
  <dc:title>Guidelines for Judging a Talk</dc:title>
</cp:coreProperties>
</file>