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157-4AFF-4441-BF2E-92B4771E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225-818D-49AB-9ADE-4AFA37A5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0AF-3B6D-452A-B70B-404F9AA3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C8C-56FB-4CFD-9827-067D356B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501-1D95-47A8-9627-8C33E465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759-1D3E-4871-A9D5-BC984D0A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F5C-9232-4D07-9405-097F603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CA8-25D8-4F51-821A-D4524DAF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736-76A7-4FDA-9052-1AF63C6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949-740A-4E69-9B1E-43D69BE0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B04-C453-4EB6-AB83-D80A5F19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4C8-CED9-4F93-9868-4538FAE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050E-31DF-40C1-82ED-C7488D2E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ing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og speaking"/>
          <p:cNvPicPr/>
          <p:nvPr/>
        </p:nvPicPr>
        <p:blipFill>
          <a:blip r:embed="rId1"/>
          <a:stretch/>
        </p:blipFill>
        <p:spPr>
          <a:xfrm>
            <a:off x="1332000" y="1916280"/>
            <a:ext cx="633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triking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s understand body language better than people do.  The slightest twitch of your body can tell a horse to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 recent in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, over 1200 wild horses were removed from Canadian Forces Base, Suffield, in southern Alber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’ve written your introduction, you should write an outline of what you plan to say in your speech. You can do this on index cards, on a sheet of paper, or on your 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peech"/>
          <p:cNvPicPr/>
          <p:nvPr/>
        </p:nvPicPr>
        <p:blipFill>
          <a:blip r:embed="rId1"/>
          <a:stretch/>
        </p:blipFill>
        <p:spPr>
          <a:xfrm>
            <a:off x="3995640" y="3645000"/>
            <a:ext cx="3097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write your speech, follow your outline and write it the same way you would any other piece of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purpose in mind – to inform or to persu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audience in mind and remember to use words and phrases that will sound good to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your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a quiet place where you can listen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a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in front of friends or family and ask for their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with an audio or video tape recorder and pick out the spots you need to practi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 Your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ready to give your speech, remember these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aud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loudly and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in a slow natural tone.  Look at your notes only when you need a remi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ear, correct language. 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slang or such sound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h, eh, or 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tall. Do not slouch, sway or 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follow all eight steps in the process, you should end up with a speech that is interesting to both you and your audi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ublic%20Speaking"/>
          <p:cNvPicPr/>
          <p:nvPr/>
        </p:nvPicPr>
        <p:blipFill>
          <a:blip r:embed="rId1"/>
          <a:stretch/>
        </p:blipFill>
        <p:spPr>
          <a:xfrm>
            <a:off x="2556000" y="1125360"/>
            <a:ext cx="3887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Infor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information (facts, figures, his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demonstr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others how to do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ch to Persuad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t facts and arguments to change people’s m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eps in 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he topic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nough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xciting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your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 spee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 the Topic Carefu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asked to write and give a speech, you should begin by picking a good topic. Ask your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know much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I like to know mo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do for f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read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ow the Top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your topic to suit your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ick a topic that is to big or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your speech will help you limit the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r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be too wide a topic.  But, if you are giv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nstration ta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might have narrowed it to “How to Put a Saddle on a Hor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n information speech, you might talk about, “The Care and Cost of Keep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were asked to give a persuasive speech, you might try to convince your audience that, “Anyone Can Enjoy Riding a Hors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orseback-riding-dog-attracts-attention-1OF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books and magazines are not the only sour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r write to experts in your school, family or neighbou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nd take notes on people, places and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videos, movies and TV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newspapers; sca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ings from your own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e an Exciting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chosen and narrowed your topic and gathered information, it’s time to prepare an introduction. Writing an introduction will help you think abo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ay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're going to say it. Here are some t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amous qu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ion is like a horserace, in that you can tell more about it the nex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 interesting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at horses have a language of their 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two summers ago, I was riding my horse in the field down the road when suddenly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7:16:27Z</dcterms:created>
  <dc:creator>Administrator</dc:creator>
  <dc:description/>
  <dc:language>en-US</dc:language>
  <cp:lastModifiedBy>Robert.Gellert</cp:lastModifiedBy>
  <dcterms:modified xsi:type="dcterms:W3CDTF">2010-02-15T14:55:50Z</dcterms:modified>
  <cp:revision>26</cp:revision>
  <dc:subject/>
  <dc:title>Giving Speeches</dc:title>
</cp:coreProperties>
</file>