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1F7F-CB0E-4D7B-AE4B-2B077CC0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779C-7E23-44A1-B0AE-D2B6791C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2096-A9B0-425C-A283-F2C75049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D962-271E-47A1-86A4-1EEE19B1C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4972-CF0C-4769-87D4-C432D4D7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672E-745B-49C9-B5B1-381DC70B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D388-9EB9-4B65-9CDA-5CDA175C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B386-C712-45C6-B00C-072A18B4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591D-66EC-485F-BEEE-3148AC27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F118-8C32-4DDE-B8B4-42497623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FFA3-C16B-4D70-A666-227CAFDC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C947-4C99-44AA-ABFC-CF834DE0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6EDB-B208-41CB-BA38-AC75AA378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ving Spee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og speaking"/>
          <p:cNvPicPr/>
          <p:nvPr/>
        </p:nvPicPr>
        <p:blipFill>
          <a:blip r:embed="rId1"/>
          <a:stretch/>
        </p:blipFill>
        <p:spPr>
          <a:xfrm>
            <a:off x="1332000" y="1916280"/>
            <a:ext cx="63356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striking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ses understand body language better than people do.  The slightest twitch of your body can tell a horse to m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 to a recent inc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ly, over 1200 wild horses were removed from Canadian Forces Base, Suffield, in southern Alber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a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you’ve written your introduction, you should write an outline of what you plan to say in your speech. You can do this on index cards, on a sheet of paper, or on your lap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speech"/>
          <p:cNvPicPr/>
          <p:nvPr/>
        </p:nvPicPr>
        <p:blipFill>
          <a:blip r:embed="rId1"/>
          <a:stretch/>
        </p:blipFill>
        <p:spPr>
          <a:xfrm>
            <a:off x="3995640" y="3645000"/>
            <a:ext cx="30974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Your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write your speech, follow your outline and write it the same way you would any other piece of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your purpose in mind – to inform or to persu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your audience in mind and remember to use words and phrases that will sound good to your aud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your Deli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in a quiet place where you can listen to you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in front of a mi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in front of friends or family and ask for their sugg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with an audio or video tape recorder and pick out the spots you need to practice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 Your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are ready to give your speech, remember these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audi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 loudly and clea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 in a slow natural tone.  Look at your notes only when you need a remi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lear, correct language.  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 slang or such sounds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h, eh, or 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 tall. Do not slouch, sway or l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nal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414936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you follow all eight steps in the process, you should end up with a speech that is interesting to both you and your audi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Public%20Speaking"/>
          <p:cNvPicPr/>
          <p:nvPr/>
        </p:nvPicPr>
        <p:blipFill>
          <a:blip r:embed="rId1"/>
          <a:stretch/>
        </p:blipFill>
        <p:spPr>
          <a:xfrm>
            <a:off x="2556000" y="1125360"/>
            <a:ext cx="3887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Spee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ech to Infor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 information (facts, figures, his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ech to demonstrat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 others how to do some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ech to Persuad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sent facts and arguments to change people’s mi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eps in th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the topic care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ow your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enough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n exciting int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out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your spe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your deli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your speech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k the Topic Carefu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are asked to write and give a speech, you should begin by picking a good topic. Ask yoursel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I know much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I like to know more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I do for f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I read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rrow the Top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your topic to suit your t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pick a topic that is to big or gen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your speech will help you limit the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rse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be too wide a topic.  But, if you are giving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nstration tal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might have narrowed it to “How to Put a Saddle on a Hors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ere asked to give an information speech, you might talk about, “The Care and Cost of Keeping a Hors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ere asked to give a persuasive speech, you might try to convince your audience that, “Anyone Can Enjoy Riding a Hors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horseback-riding-dog-attracts-attention-1OF"/>
          <p:cNvPicPr/>
          <p:nvPr/>
        </p:nvPicPr>
        <p:blipFill>
          <a:blip r:embed="rId1"/>
          <a:stretch/>
        </p:blipFill>
        <p:spPr>
          <a:xfrm>
            <a:off x="4643280" y="1628640"/>
            <a:ext cx="4105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, books and magazines are not the only sources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or write to experts in your school, family or neighbourh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 and take notes on people, places and ev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videos, movies and TV pro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newspapers; scan the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ings from your own exper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e an Exciting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 have chosen and narrowed your topic and gathered information, it’s time to prepare an introduction. Writing an introduction will help you think abo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ant to say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're going to say it. Here are some ti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famous qu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lection is like a horserace, in that you can tell more about it the nex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an interesting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know that horses have a language of their 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a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day two summers ago, I was riding my horse in the field down the road when suddenly…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7:16:27Z</dcterms:created>
  <dc:creator>Administrator</dc:creator>
  <dc:description/>
  <dc:language>en-US</dc:language>
  <cp:lastModifiedBy>Robert.Gellert</cp:lastModifiedBy>
  <dcterms:modified xsi:type="dcterms:W3CDTF">2010-02-15T14:55:50Z</dcterms:modified>
  <cp:revision>26</cp:revision>
  <dc:subject/>
  <dc:title>Giving Speeches</dc:title>
</cp:coreProperties>
</file>