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B59F-7676-4EB0-9623-E46D094F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CC9-BF3F-4F3C-99A3-AE7C8835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540E-9022-4CCF-81CC-06CDFCF7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11F-E6B7-4DAC-8C3C-1C833446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097B-C07C-46FF-9F32-7E8848F7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9941-CA65-40F2-8007-4EF08D5C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98B-0746-4A28-BD8F-9B4FC843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C21D-42F7-407F-A17A-117DFBE0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D4B2-875D-4B8F-B1C1-6385E732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000-48AE-44A0-AE51-60EE7378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642D-8463-459C-B893-B444502F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5251-A73D-406B-A2CE-A0005579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D524-65D7-46C0-A45C-BA3A43E2D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ing Spee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og speaking"/>
          <p:cNvPicPr/>
          <p:nvPr/>
        </p:nvPicPr>
        <p:blipFill>
          <a:blip r:embed="rId1"/>
          <a:stretch/>
        </p:blipFill>
        <p:spPr>
          <a:xfrm>
            <a:off x="1332000" y="1916280"/>
            <a:ext cx="63356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striking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ses understand body language better than people do.  The slightest twitch of your body can tell a horse to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a recent in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ly, over 1200 wild horses were removed from Canadian Forces Base, Suffield, in southern Alber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a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you’ve written your introduction, you should write an outline of what you plan to say in your speech. You can do this on index cards, on a sheet of paper, or on your lap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speech"/>
          <p:cNvPicPr/>
          <p:nvPr/>
        </p:nvPicPr>
        <p:blipFill>
          <a:blip r:embed="rId1"/>
          <a:stretch/>
        </p:blipFill>
        <p:spPr>
          <a:xfrm>
            <a:off x="3995640" y="3645000"/>
            <a:ext cx="3097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Your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write your speech, follow your outline and write it the same way you would any other piece of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your purpose in mind – to inform or to persu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your audience in mind and remember to use words and phrases that will sound good to your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your Deli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in a quiet place where you can listen to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in front of a mi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in front of friends or family and ask for their sugg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with an audio or video tape recorder and pick out the spots you need to practice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 Your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 ready to give your speech, remember these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audi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loudly and cl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in a slow natural tone.  Look at your notes only when you need a remi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lear, correct language. 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 slang or such sounds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h, eh, or 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tall. Do not slouch, sway or 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nal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you follow all eight steps in the process, you should end up with a speech that is interesting to both you and your audi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ublic%20Speaking"/>
          <p:cNvPicPr/>
          <p:nvPr/>
        </p:nvPicPr>
        <p:blipFill>
          <a:blip r:embed="rId1"/>
          <a:stretch/>
        </p:blipFill>
        <p:spPr>
          <a:xfrm>
            <a:off x="2556000" y="1125360"/>
            <a:ext cx="3887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Spee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ch to Infor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information (facts, figures, his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ch to demonstrat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 others how to do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ch to Persuad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ent facts and arguments to change people’s mi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eps in 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the topic 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ow your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enough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n exciting int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out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your deli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your speec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k the Topic Carefu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 asked to write and give a speech, you should begin by picking a good topic. Ask your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I know much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I like to know more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I do for f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I read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rrow the T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your topic to suit your t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pick a topic that is to big or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your speech will help you limit the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rs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too wide a topic.  But, if you are giv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nstration ta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might have narrowed it to “How to Put a Saddle on a Hors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ere asked to give an information speech, you might talk about, “The Care and Cost of Keeping a Hors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ere asked to give a persuasive speech, you might try to convince your audience that, “Anyone Can Enjoy Riding a Hors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orseback-riding-dog-attracts-attention-1OF"/>
          <p:cNvPicPr/>
          <p:nvPr/>
        </p:nvPicPr>
        <p:blipFill>
          <a:blip r:embed="rId1"/>
          <a:stretch/>
        </p:blipFill>
        <p:spPr>
          <a:xfrm>
            <a:off x="4643280" y="1628640"/>
            <a:ext cx="4105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, books and magazines are not the only sour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or write to experts in your school, family or neighbourh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 and take notes on people, places and ev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videos, movies and TV pr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newspapers; scan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ings from your own exper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e an Exciting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have chosen and narrowed your topic and gathered information, it’s time to prepare an introduction. Writing an introduction will help you think abo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ant to say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're going to say it. Here are some ti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famous qu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lection is like a horserace, in that you can tell more about it the nex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an interesting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know that horses have a language of their 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day two summers ago, I was riding my horse in the field down the road when suddenly…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7:16:27Z</dcterms:created>
  <dc:creator>Administrator</dc:creator>
  <dc:description/>
  <dc:language>en-US</dc:language>
  <cp:lastModifiedBy>Robert.Gellert</cp:lastModifiedBy>
  <dcterms:modified xsi:type="dcterms:W3CDTF">2010-02-15T14:55:50Z</dcterms:modified>
  <cp:revision>26</cp:revision>
  <dc:subject/>
  <dc:title>Giving Speeches</dc:title>
</cp:coreProperties>
</file>