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036A-52F6-4AB3-A3C5-35B20E41A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FACE-42FD-4945-A03E-87F64895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6A22-CA8D-432B-BB72-A74E08A9E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E3C1-5731-4A23-A3FF-442A4B1CF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07B3-632D-4F5D-83E0-8E44CFD2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3FCB-E9C8-4DCD-8CED-BDD8EDFD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84ED-F173-433F-B08C-2E08E19A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142F-F775-4867-BDBB-6F6F0F01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738A-5021-40FF-AC14-3CD62B16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F3C0-7C11-435D-9F14-6A622A13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EE6F-5979-4603-92B2-29ED2EC7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D0E3-8DCD-4E01-8FF8-59B9C90C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2EEC-226B-4D4D-B802-1EFD2BC6D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ving Spee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dog speaking"/>
          <p:cNvPicPr/>
          <p:nvPr/>
        </p:nvPicPr>
        <p:blipFill>
          <a:blip r:embed="rId1"/>
          <a:stretch/>
        </p:blipFill>
        <p:spPr>
          <a:xfrm>
            <a:off x="1332000" y="1916280"/>
            <a:ext cx="63356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striking stat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ses understand body language better than people do.  The slightest twitch of your body can tell a horse to m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 to a recent inci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ntly, over 1200 wild horses were removed from Canadian Forces Base, Suffield, in southern Alber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e a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you’ve written your introduction, you should write an outline of what you plan to say in your speech. You can do this on index cards, on a sheet of paper, or on your lap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speech"/>
          <p:cNvPicPr/>
          <p:nvPr/>
        </p:nvPicPr>
        <p:blipFill>
          <a:blip r:embed="rId1"/>
          <a:stretch/>
        </p:blipFill>
        <p:spPr>
          <a:xfrm>
            <a:off x="3995640" y="3645000"/>
            <a:ext cx="30974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e Your 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write your speech, follow your outline and write it the same way you would any other piece of wr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your purpose in mind – to inform or to persu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your audience in mind and remember to use words and phrases that will sound good to your aud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your Deli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in a quiet place where you can listen to your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in front of a mirr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in front of friends or family and ask for their sugg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with an audio or video tape recorder and pick out the spots you need to practice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 Your 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are ready to give your speech, remember these poi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the audie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k loudly and clear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k in a slow natural tone.  Look at your notes only when you need a remi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lear, correct language.  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 slang or such sounds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h, eh, or 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 tall. Do not slouch, sway or l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nal 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414936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you follow all eight steps in the process, you should end up with a speech that is interesting to both you and your audien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Public%20Speaking"/>
          <p:cNvPicPr/>
          <p:nvPr/>
        </p:nvPicPr>
        <p:blipFill>
          <a:blip r:embed="rId1"/>
          <a:stretch/>
        </p:blipFill>
        <p:spPr>
          <a:xfrm>
            <a:off x="2556000" y="1125360"/>
            <a:ext cx="38876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Spee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ech to Infor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ive information (facts, figures, histo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ech to demonstrat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w others how to do some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ech to Persuad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esent facts and arguments to change people’s mi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eps in the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the topic carefu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ow your top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her enough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an exciting int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n out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your spee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your deli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 your speech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k the Topic Carefu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are asked to write and give a speech, you should begin by picking a good topic. Ask yoursel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I know much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uld I like to know more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I do for f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I read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rrow the Top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 your topic to suit your tal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pick a topic that is to big or gene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of your speech will help you limit the top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rse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be too wide a topic.  But, if you are giving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nstration tal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 might have narrowed it to “How to Put a Saddle on a Hors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were asked to give an information speech, you might talk about, “The Care and Cost of Keeping a Hors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were asked to give a persuasive speech, you might try to convince your audience that, “Anyone Can Enjoy Riding a Hors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horseback-riding-dog-attracts-attention-1OF"/>
          <p:cNvPicPr/>
          <p:nvPr/>
        </p:nvPicPr>
        <p:blipFill>
          <a:blip r:embed="rId1"/>
          <a:stretch/>
        </p:blipFill>
        <p:spPr>
          <a:xfrm>
            <a:off x="4643280" y="1628640"/>
            <a:ext cx="41054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, books and magazines are not the only sources of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or write to experts in your school, family or neighbourh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e and take notes on people, places and ev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 videos, movies and TV progr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newspapers; scan the inter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things from your own exper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e an Exciting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that you have chosen and narrowed your topic and gathered information, it’s time to prepare an introduction. Writing an introduction will help you think abou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ant to say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're going to say it. Here are some ti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famous quo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lection is like a horserace, in that you can tell more about it the next da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an interesting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know that horses have a language of their 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a 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day two summers ago, I was riding my horse in the field down the road when suddenly…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17:16:27Z</dcterms:created>
  <dc:creator>Administrator</dc:creator>
  <dc:description/>
  <dc:language>en-US</dc:language>
  <cp:lastModifiedBy>Robert.Gellert</cp:lastModifiedBy>
  <dcterms:modified xsi:type="dcterms:W3CDTF">2010-02-15T14:55:50Z</dcterms:modified>
  <cp:revision>26</cp:revision>
  <dc:subject/>
  <dc:title>Giving Speeches</dc:title>
</cp:coreProperties>
</file>