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7.wmf" ContentType="image/x-wmf"/>
  <Override PartName="/ppt/media/image12.png" ContentType="image/png"/>
  <Override PartName="/ppt/media/image20.jpeg" ContentType="image/jpeg"/>
  <Override PartName="/ppt/media/image7.png" ContentType="image/png"/>
  <Override PartName="/ppt/media/image6.jpeg" ContentType="image/jpeg"/>
  <Override PartName="/ppt/media/image5.wmf" ContentType="image/x-wmf"/>
  <Override PartName="/ppt/media/image10.png" ContentType="image/png"/>
  <Override PartName="/ppt/media/image22.wmf" ContentType="image/x-wmf"/>
  <Override PartName="/ppt/media/image18.wmf" ContentType="image/x-wmf"/>
  <Override PartName="/ppt/media/image16.jpeg" ContentType="image/jpeg"/>
  <Override PartName="/ppt/media/image14.jpeg" ContentType="image/jpeg"/>
  <Override PartName="/ppt/media/image1.png" ContentType="image/png"/>
  <Override PartName="/ppt/media/image21.gif" ContentType="image/gif"/>
  <Override PartName="/ppt/media/image2.jpeg" ContentType="image/jpeg"/>
  <Override PartName="/ppt/media/image15.jpeg" ContentType="image/jpeg"/>
  <Override PartName="/ppt/media/image3.wmf" ContentType="image/x-wmf"/>
  <Override PartName="/ppt/media/image8.jpeg" ContentType="image/jpeg"/>
  <Override PartName="/ppt/media/image13.jpeg" ContentType="image/jpeg"/>
  <Override PartName="/ppt/media/image4.wmf" ContentType="image/x-wmf"/>
  <Override PartName="/ppt/media/image11.png" ContentType="image/png"/>
  <Override PartName="/ppt/media/image1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00713-F808-410E-84C7-E61F10EDE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CC9C4-30E5-4DCB-9149-AABA23B5F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50FE9-BA09-4ED8-BCC9-EF410A734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EDE48-6815-468A-ACB5-C7041A047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BA0BE-5478-46F2-AB2B-59FDE063F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EE841-B683-4AB9-BD6E-79E093895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7DA34-92E2-41A5-A49B-C98E51C14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B4041-2778-43C6-AE72-51C0D61BF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579CE-1E83-4BC4-8790-015B9A821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C58EE-EE85-4269-AD9B-B1B4C5345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96CFB-173A-4B75-8D30-B0847051E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9947B-5DE9-4A4C-BD58-B74110467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5D117-F9C9-4505-91A2-6E038E476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83F20-0BF9-4DE3-ACE5-E67DB0BF5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24956-DB83-47B8-A2D9-E7DFFBFDF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0D610-3DA9-45F5-B04D-3F56A692D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68EB7-9267-4375-A09D-273E82708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DDF62-B45C-4D32-9CB4-C32C7B540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E3EDA-6710-42E7-ADB6-8321CE0F4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FC3A8-339A-4058-A7FA-DD50F2746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B08C0-EC94-4C45-92D4-E58A86E76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32B45-A024-4E17-9D57-DC76EB798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CD6A3-6FDF-4DFD-BF97-915CA5B06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7EA0D-FA75-4C10-A0CE-2E9FCE8C0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189C4-EC7A-4699-945F-F8385027A027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DE3E5-598D-43A3-8918-7F3F3EA58297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gif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5400" spc="-1" strike="noStrike">
                <a:solidFill>
                  <a:srgbClr val="ffffcc"/>
                </a:solidFill>
                <a:latin typeface="Tahoma"/>
              </a:rPr>
              <a:t>Demonstration Talks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395280" y="189000"/>
            <a:ext cx="4038480" cy="64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groom a do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change a bicycle ti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build a bird hous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6084720" y="189000"/>
            <a:ext cx="1524240" cy="121896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6012000" y="2276640"/>
            <a:ext cx="1587240" cy="12315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5724360" y="3860640"/>
            <a:ext cx="2376720" cy="180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68360" y="189000"/>
            <a:ext cx="403848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handle a rod and re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arrange flow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throw a frisbe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6156360" y="189000"/>
            <a:ext cx="1446120" cy="178416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084720" y="2421000"/>
            <a:ext cx="1517760" cy="18241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6084720" y="4581360"/>
            <a:ext cx="1428840" cy="1714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68360" y="189000"/>
            <a:ext cx="403848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prepare  a special sala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build a campfi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or a topic of your ow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867280" y="260280"/>
            <a:ext cx="2159280" cy="162108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5867280" y="2276640"/>
            <a:ext cx="2160720" cy="15127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6156360" y="4149720"/>
            <a:ext cx="1279440" cy="1793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ffcc"/>
                </a:solidFill>
                <a:latin typeface="Tahoma"/>
              </a:rPr>
              <a:t>`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Have you ever tried to teach a child how to catch a ball without demonstrating the procedure with your hands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It seems almost impossible to d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5796000" y="2204640"/>
            <a:ext cx="1728720" cy="287964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5867280" y="2276640"/>
            <a:ext cx="1613160" cy="2743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Try sitting on your hands and tell a friend how to make a paper airplane or how to do a simple exercis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651640" y="2492280"/>
            <a:ext cx="1996920" cy="21495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2124000" y="4508640"/>
            <a:ext cx="1193760" cy="1819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539640" y="4220640"/>
            <a:ext cx="8229600" cy="21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Doing one of these things makes one realize that there are times when it is absolutely necessary to demonstrate what you mean. In a demonstration talk you tell how something is done while demonstrating the action at the same tim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708360" y="2057400"/>
            <a:ext cx="1292400" cy="180828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611280" y="5157720"/>
            <a:ext cx="8229600" cy="15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68360" y="476280"/>
            <a:ext cx="8229600" cy="11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In a demonstration talk, you tell how something is done while demonstrating the action at the same time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395280" y="188640"/>
            <a:ext cx="822960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A demonstration talk must be </a:t>
            </a:r>
            <a:r>
              <a:rPr b="1" lang="en-CA" sz="3200" spc="-1" strike="noStrike">
                <a:solidFill>
                  <a:srgbClr val="ffffff"/>
                </a:solidFill>
                <a:latin typeface="Tahoma"/>
              </a:rPr>
              <a:t>extremely</a:t>
            </a: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 well organize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ffff"/>
                </a:solidFill>
                <a:latin typeface="Tahoma"/>
              </a:rPr>
              <a:t>Begin</a:t>
            </a: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 by </a:t>
            </a:r>
            <a:r>
              <a:rPr b="1" lang="en-CA" sz="3200" spc="-1" strike="noStrike">
                <a:solidFill>
                  <a:srgbClr val="ffffff"/>
                </a:solidFill>
                <a:latin typeface="Tahoma"/>
              </a:rPr>
              <a:t>gathering</a:t>
            </a: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 all the materials that you will need for your demonstratio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Then </a:t>
            </a:r>
            <a:r>
              <a:rPr b="1" lang="en-CA" sz="3200" spc="-1" strike="noStrike">
                <a:solidFill>
                  <a:srgbClr val="ffffff"/>
                </a:solidFill>
                <a:latin typeface="Tahoma"/>
              </a:rPr>
              <a:t>write</a:t>
            </a: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 your speech, making sure that you cover every part of the process –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ffff"/>
                </a:solidFill>
                <a:latin typeface="Tahoma"/>
              </a:rPr>
              <a:t>introduc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ffff"/>
                </a:solidFill>
                <a:latin typeface="Tahoma"/>
              </a:rPr>
              <a:t>bod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ffff"/>
                </a:solidFill>
                <a:latin typeface="Tahoma"/>
              </a:rPr>
              <a:t>and conclus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395280" y="1125360"/>
            <a:ext cx="8229600" cy="44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ffff"/>
                </a:solidFill>
                <a:latin typeface="Tahoma"/>
              </a:rPr>
              <a:t>Explain</a:t>
            </a: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 each step precisely and thoroughl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Carefully</a:t>
            </a:r>
            <a:r>
              <a:rPr b="1" lang="en-CA" sz="3200" spc="-1" strike="noStrike">
                <a:solidFill>
                  <a:srgbClr val="ffffff"/>
                </a:solidFill>
                <a:latin typeface="Tahoma"/>
              </a:rPr>
              <a:t> coordinate </a:t>
            </a: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1" lang="en-CA" sz="3200" spc="-1" strike="noStrike">
                <a:solidFill>
                  <a:srgbClr val="ffffff"/>
                </a:solidFill>
                <a:latin typeface="Tahoma"/>
              </a:rPr>
              <a:t>physical aspects</a:t>
            </a: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 of the demonstration with your speech and </a:t>
            </a:r>
            <a:r>
              <a:rPr b="1" lang="en-CA" sz="3200" spc="-1" strike="noStrike">
                <a:solidFill>
                  <a:srgbClr val="ffffff"/>
                </a:solidFill>
                <a:latin typeface="Tahoma"/>
              </a:rPr>
              <a:t>practise </a:t>
            </a: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using your </a:t>
            </a:r>
            <a:r>
              <a:rPr b="1" lang="en-CA" sz="3200" spc="-1" strike="noStrike">
                <a:solidFill>
                  <a:srgbClr val="ffffff"/>
                </a:solidFill>
                <a:latin typeface="Tahoma"/>
              </a:rPr>
              <a:t>prop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4038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You might show how to do one of the following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swing a golf club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pot a pla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5967360" y="1700280"/>
            <a:ext cx="1459080" cy="28605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6012000" y="4724280"/>
            <a:ext cx="1400040" cy="180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189000"/>
            <a:ext cx="404352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plant a terrariu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hook a ru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make a cand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5148360" y="189000"/>
            <a:ext cx="3168720" cy="143964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5292720" y="2205000"/>
            <a:ext cx="2674800" cy="165564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4932360" y="4076640"/>
            <a:ext cx="3527280" cy="2016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539280" y="189000"/>
            <a:ext cx="4103640" cy="64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make a collage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play a guita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bake a cake or pi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5003640" y="260280"/>
            <a:ext cx="3911760" cy="21589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5435640" y="2565360"/>
            <a:ext cx="3139920" cy="20160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5003640" y="4797360"/>
            <a:ext cx="3657600" cy="1728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14:26:02Z</dcterms:created>
  <dc:creator>Administrator</dc:creator>
  <dc:description/>
  <dc:language>en-US</dc:language>
  <cp:lastModifiedBy>Administrator</cp:lastModifiedBy>
  <dcterms:modified xsi:type="dcterms:W3CDTF">2006-04-10T17:21:32Z</dcterms:modified>
  <cp:revision>19</cp:revision>
  <dc:subject/>
  <dc:title>Demonstration Talks</dc:title>
</cp:coreProperties>
</file>