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22.wmf" ContentType="image/x-wmf"/>
  <Override PartName="/ppt/media/image1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8C5-C50A-480B-9CDF-3BBAF326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C2BE-96D5-4050-B2DD-7215154E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387-D9EC-44A1-A09E-E7813112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029-BE2C-4CD6-859C-1BA6EFDD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9BD3-B392-4D82-AACF-9DE08575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4EEA-24BC-4215-8F6C-BB62A23C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F2C0-E3D0-4006-925C-2FF3F0B8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596F-907F-4F9C-80F3-327642B1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A86A-513D-4ABC-B769-668C0C56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5766-6AD3-4580-927C-850C0B04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3D56-0C19-4CB1-B501-F2D8203F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34F-92B2-4309-A711-3D623EB4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1878-9F9A-4139-B773-8BD8FB88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130A-3C76-4445-87AB-1A8FB1D2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50BC-AD00-459F-BAA1-58EF761B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2F4D-51A3-4CCA-8BC9-AED081B5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5759-3DDD-4216-8762-7D9973ED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51D-02B1-4BB1-9456-8369A8C6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E04-03E8-4BAA-A7E9-07D5D098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9CA-BF90-4BE9-B06E-4EE1D616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27B-3A03-489C-8E70-F81E6821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6D2-F886-4613-9B6D-D0145B5A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BD3-A558-47D9-B51A-84E65E2B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AAE-16FD-4F9F-80A5-DF0627B6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2AAF-9A61-454D-A0E2-74443EB46A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69ED-520C-46B7-956A-644251211D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cc"/>
                </a:solidFill>
                <a:latin typeface="Tahoma"/>
              </a:rPr>
              <a:t>Demonstration Talk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40384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groom a d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hange a bicycl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a bird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1587240" cy="1231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24360" y="3860640"/>
            <a:ext cx="2376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ndle a rod and r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rrange fl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row a frisb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1446120" cy="178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1517760" cy="182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142884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pare  a special sal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a camp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r a topic of your 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159280" cy="162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1279440" cy="17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`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ve you ever tried to teach a child how to catch a ball without demonstrating the procedure with your han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 seems almost impossible to 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96000" y="2204640"/>
            <a:ext cx="1728720" cy="287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1613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ry sitting on your hands and tell a friend how to make a paper airplane or how to do a simple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1996920" cy="2149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24000" y="4508640"/>
            <a:ext cx="119376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422064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oing one of these things makes one realize that there are times when it is absolutely necessary to demonstrate what you mean. In a demonstration talk you tell how something is done while demonstrating the action at the same 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08360" y="2057400"/>
            <a:ext cx="1292400" cy="1808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1280" y="5157720"/>
            <a:ext cx="82296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7628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n a demonstration talk, you tell how something is done while demonstrating the action at the same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demonstration talk must be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xtremely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well organiz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Begi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by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gathering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all the materials that you will need for your demons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n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write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your speech, making sure that you cover every part of the process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and concl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xplai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each step precisely and thorough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refully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 coordinate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hysical aspects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of the demonstration with your speech and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actise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sing your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o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You might show how to do one of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wing a golf clu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t a pl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00280"/>
            <a:ext cx="1459080" cy="2860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2000" y="472428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4043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t a terra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ook a 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ke a cand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168720" cy="1439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267480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52728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41036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ke a collag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y a guit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ke a cake or p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3911760" cy="2158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139920" cy="201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03640" y="4797360"/>
            <a:ext cx="36576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6:02Z</dcterms:created>
  <dc:creator>Administrator</dc:creator>
  <dc:description/>
  <dc:language>en-US</dc:language>
  <cp:lastModifiedBy>Administrator</cp:lastModifiedBy>
  <dcterms:modified xsi:type="dcterms:W3CDTF">2006-04-10T17:21:32Z</dcterms:modified>
  <cp:revision>19</cp:revision>
  <dc:subject/>
  <dc:title>Demonstration Talks</dc:title>
</cp:coreProperties>
</file>