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6.jpeg" ContentType="image/jpeg"/>
  <Override PartName="/ppt/media/image5.wmf" ContentType="image/x-wmf"/>
  <Override PartName="/ppt/media/image10.png" ContentType="image/png"/>
  <Override PartName="/ppt/media/image22.wmf" ContentType="image/x-wmf"/>
  <Override PartName="/ppt/media/image18.wmf" ContentType="image/x-wmf"/>
  <Override PartName="/ppt/media/image16.jpeg" ContentType="image/jpeg"/>
  <Override PartName="/ppt/media/image14.jpeg" ContentType="image/jpeg"/>
  <Override PartName="/ppt/media/image1.png" ContentType="image/png"/>
  <Override PartName="/ppt/media/image21.gif" ContentType="image/gif"/>
  <Override PartName="/ppt/media/image2.jpeg" ContentType="image/jpeg"/>
  <Override PartName="/ppt/media/image15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9DE0-8C82-4630-82ED-260DFFD3B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0A45-598D-4E72-AFC6-E66CC51A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691F-1E8D-4AAD-89F5-882493DE1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D562-E815-4F77-8E44-19B8AC734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ADB5-5CA6-4230-B23F-5C8FED9C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440D-5B7E-4575-84CF-42F5537A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BF69-32EF-4059-95D6-243BA8A5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C50D-BBAE-4DB7-9BEB-F37C3F52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C3FC-0C1E-4A19-A89B-AD8BA064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BA0A-261D-4EF4-A519-A9E050D7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986C-8F49-4B85-8DBA-04A2F6FD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05BC-A99C-4169-AD3F-A56768C2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0451-A72E-4165-9E5F-198FA303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1388-12A1-4C4E-8C38-C3304993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279A-A72F-4732-9F3F-F9E43691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27EB-4D8B-4770-A62F-AA0740C5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5D20-7363-4876-AFD7-B9C593E9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FFA7-74A0-4B76-BC2E-AAB7EC49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748D-1452-4042-8D7A-9F337405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6094-1C77-45B1-94F7-122DF40B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924F-3A4A-44A3-936E-47C93DBD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7DB4-F5C9-4036-B25D-DF83303A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4C45-5F05-4B99-BBD4-496F5251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C644-748E-4622-A349-7045FEDB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2CED-E6BA-4396-B0E3-F908163CDD3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ECC6-9025-4716-9B43-5D59B08C0F2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cc"/>
                </a:solidFill>
                <a:latin typeface="Tahoma"/>
              </a:rPr>
              <a:t>Demonstration Talk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403848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groom a do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change a bicycle t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build a bird ho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84720" y="189000"/>
            <a:ext cx="1524240" cy="1218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1587240" cy="1231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724360" y="3860640"/>
            <a:ext cx="23767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40384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handle a rod and re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rrange flow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hrow a frisb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156360" y="189000"/>
            <a:ext cx="1446120" cy="1784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084720" y="2421000"/>
            <a:ext cx="1517760" cy="1824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084720" y="4581360"/>
            <a:ext cx="1428840" cy="17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40384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repare  a special sal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build a campf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or a topic of your ow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867280" y="260280"/>
            <a:ext cx="2159280" cy="1621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867280" y="2276640"/>
            <a:ext cx="2160720" cy="1512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156360" y="4149720"/>
            <a:ext cx="1279440" cy="179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`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Have you ever tried to teach a child how to catch a ball without demonstrating the procedure with your hand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It seems almost impossible to 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796000" y="2204640"/>
            <a:ext cx="1728720" cy="2879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867280" y="2276640"/>
            <a:ext cx="161316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ry sitting on your hands and tell a friend how to make a paper airplane or how to do a simple exerci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651640" y="2492280"/>
            <a:ext cx="1996920" cy="2149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124000" y="4508640"/>
            <a:ext cx="1193760" cy="181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9640" y="422064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Doing one of these things makes one realize that there are times when it is absolutely necessary to demonstrate what you mean. In a demonstration talk you tell how something is done while demonstrating the action at the same ti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708360" y="2057400"/>
            <a:ext cx="1292400" cy="1808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1280" y="5157720"/>
            <a:ext cx="82296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476280"/>
            <a:ext cx="82296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In a demonstration talk, you tell how something is done while demonstrating the action at the same ti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 demonstration talk must be 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extremely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well organiz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Begin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by 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gathering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all the materials that you will need for your demonstr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en 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write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your speech, making sure that you cover every part of the process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b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and conclu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4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Explain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each step precisely and thorough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arefully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 coordinate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physical aspects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of the demonstration with your speech and 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practise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using your 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prop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You might show how to do one of the followi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swing a golf clu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ot a pl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67360" y="1700280"/>
            <a:ext cx="1459080" cy="2860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12000" y="4724280"/>
            <a:ext cx="140004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40435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lant a terrari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hook a ru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ake a cand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148360" y="189000"/>
            <a:ext cx="3168720" cy="1439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292720" y="2205000"/>
            <a:ext cx="2674800" cy="1655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932360" y="4076640"/>
            <a:ext cx="352728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9280" y="189000"/>
            <a:ext cx="41036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ake a collag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lay a guit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bake a cake or p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03640" y="260280"/>
            <a:ext cx="3911760" cy="2158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435640" y="2565360"/>
            <a:ext cx="3139920" cy="2016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003640" y="4797360"/>
            <a:ext cx="365760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4:26:02Z</dcterms:created>
  <dc:creator>Administrator</dc:creator>
  <dc:description/>
  <dc:language>en-US</dc:language>
  <cp:lastModifiedBy>Administrator</cp:lastModifiedBy>
  <dcterms:modified xsi:type="dcterms:W3CDTF">2006-04-10T17:21:32Z</dcterms:modified>
  <cp:revision>19</cp:revision>
  <dc:subject/>
  <dc:title>Demonstration Talks</dc:title>
</cp:coreProperties>
</file>