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wmf" ContentType="image/x-wmf"/>
  <Override PartName="/ppt/media/image1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70B-F768-4C07-8D75-2281A7F5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618-185D-44B1-B0E0-F391F837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21A-EA4D-41B3-92CE-ACA02777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E8F-AA93-4876-8604-0448FD94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18FC-5CDC-41AA-AB2D-6A2427DD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8DEE-5EB1-4B23-8C55-C7FF7C5B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A0BB-3CF0-44C6-8EBF-BF73CB1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ACB5-02E3-4FF9-B753-AF4BE096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710C-569E-44F4-9607-8DCD9A4C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51F3-63F9-4E9F-B8BD-A90CC877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0EA3-F50A-4E81-B7DE-9CB87DC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AB4-BCEE-4167-AABD-4963BE46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300-950F-4D3A-932C-80C9286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79B-190F-4894-A47F-C04CFC63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9B63-D1C3-44DE-8FC9-F1227274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909-AEB8-4B15-9BC7-E48F6939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ECB6-7A55-41A4-95E8-4DEEE0E3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E7E-F603-468E-965E-A9422A36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DE9-9D81-4FD8-AF20-D532BD69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CAD-C764-461F-84A5-12BC912C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9CC-3858-43B5-ADEB-86623C5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037-DA67-4278-BBB8-A164C6A8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EC6-239D-4905-BF38-6C42512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6AA-2531-42DC-8637-4D4C50FD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F553-8297-45CE-8173-9A27246BAB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41A-D291-4773-9FA3-95F7F070B3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cc"/>
                </a:solidFill>
                <a:latin typeface="Tahoma"/>
              </a:rPr>
              <a:t>Demonstration Talk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room a 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ange a bicycl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bird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587240" cy="123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le a rod and r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rrange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ow a frisb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446120" cy="17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151776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pare  a special sa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r a topic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15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12794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`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ve you ever tried to teach a child how to catch a ball without demonstrating the procedure with your han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seems almost impossible to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2204640"/>
            <a:ext cx="172872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1613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y sitting on your hands and tell a friend how to make a paper airplane or how to do a simple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199692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119376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oing one of these things makes one realize that there are times when it is absolutely necessary to demonstrate what you mean. In a demonstration talk you tell how something is done while demonstrating the action at the sam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057400"/>
            <a:ext cx="1292400" cy="180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a demonstration talk, you tell how something is done while demonstrating the action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demonstration talk must b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treme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well organiz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eg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gathering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all the materials that you will need for your demon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n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writ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your speech, making sure that you cover every part of the proces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and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pla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each step precisely and thorough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refully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coordinat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hysical aspect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of the demonstration with your speech and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actis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ing your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might show how to do one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wing a golf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t a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00280"/>
            <a:ext cx="1459080" cy="28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t a ter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ok a 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748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ollag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y a gu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ke a cake or p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91176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13992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6576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6:02Z</dcterms:created>
  <dc:creator>Administrator</dc:creator>
  <dc:description/>
  <dc:language>en-US</dc:language>
  <cp:lastModifiedBy>Administrator</cp:lastModifiedBy>
  <dcterms:modified xsi:type="dcterms:W3CDTF">2006-04-10T17:21:32Z</dcterms:modified>
  <cp:revision>19</cp:revision>
  <dc:subject/>
  <dc:title>Demonstration Talks</dc:title>
</cp:coreProperties>
</file>