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22.wmf" ContentType="image/x-wmf"/>
  <Override PartName="/ppt/media/image1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C0B-AE0D-4077-8907-DEB49730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982-F194-4446-8AFD-BFDCE191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9C9-B351-412C-AAE8-3D324A8B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7DA-3FC8-457B-99FE-09B1ABA0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1565-62F9-4191-91DB-3B26F24C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0F9C-E0CA-43D7-8838-0E295A9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F490-F96F-465D-9826-A9890F3B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625-44B4-4034-B86D-71D599E9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940B-D6C6-46CB-8FB5-90A848A8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16DB-4D8C-4B9E-8C75-93A10A0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FB88-EA38-4A08-8927-43A9EE1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A46-A0AD-42F3-B6CE-36C4236E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336-890F-4955-A3F6-4355AD4D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21C4-1D70-408F-856E-2EF94A9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D8E2-8635-4EA5-B4DE-3E6A10E9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A914-3171-42C6-8E9C-76A4528C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F2BB-C8E6-49FA-B1D2-4ED3D382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04B-66B1-443F-BC14-D439618F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0CC-467B-4D5A-9270-B6D14FEE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133-A15B-4F61-BD43-99884362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78F-DD2E-4768-AB58-A5685CD9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BF2-A65F-4B9A-A49E-02FC3702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82E-2D2C-414F-9261-6A60CCF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ED8-AC20-4669-8B6A-CCABC8F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82C-1F0D-498D-A88E-87C5D95DF0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D44-5FA6-450E-BD33-8D6B921871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cc"/>
                </a:solidFill>
                <a:latin typeface="Tahoma"/>
              </a:rPr>
              <a:t>Demonstration Talk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room a 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ange a bicycl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bird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1587240" cy="1231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le a rod and r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rrange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row a frisb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446120" cy="17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151776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pare  a special sa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r a topic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15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12794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`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ve you ever tried to teach a child how to catch a ball without demonstrating the procedure with your han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seems almost impossible to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6000" y="2204640"/>
            <a:ext cx="172872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1613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y sitting on your hands and tell a friend how to make a paper airplane or how to do a simple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199692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4000" y="4508640"/>
            <a:ext cx="119376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oing one of these things makes one realize that there are times when it is absolutely necessary to demonstrate what you mean. In a demonstration talk you tell how something is done while demonstrating the action at the sam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08360" y="2057400"/>
            <a:ext cx="1292400" cy="180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515772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 a demonstration talk, you tell how something is done while demonstrating the action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demonstration talk must b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treme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well organiz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eg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gathering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all the materials that you will need for your demon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n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writ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your speech, making sure that you cover every part of the proces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and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pla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each step precisely and thorough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refully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 coordinat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hysical aspect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of the demonstration with your speech and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actis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ing your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might show how to do one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wing a golf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t a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00280"/>
            <a:ext cx="1459080" cy="28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t a ter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ok a 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7480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ollag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y a gu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ke a cake or p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911760" cy="21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13992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36576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6:02Z</dcterms:created>
  <dc:creator>Administrator</dc:creator>
  <dc:description/>
  <dc:language>en-US</dc:language>
  <cp:lastModifiedBy>Administrator</cp:lastModifiedBy>
  <dcterms:modified xsi:type="dcterms:W3CDTF">2006-04-10T17:21:32Z</dcterms:modified>
  <cp:revision>19</cp:revision>
  <dc:subject/>
  <dc:title>Demonstration Talks</dc:title>
</cp:coreProperties>
</file>