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22.wmf" ContentType="image/x-wmf"/>
  <Override PartName="/ppt/media/image1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6E2-BB2E-4A73-8D8B-09ED1147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B37-D51E-4275-8585-77F61A53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962-BBF2-446F-923A-4F6C7E6E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BEF-0AA3-45B5-A53C-DFD36B8A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320F-1953-41E4-938E-EECB7E0C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357E-4BB9-40EA-AE7B-24B495B7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1558-5A2E-4D1B-9655-B1757B8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A51A-7038-4386-BEBA-9ECFA5AA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DEAA-9F0C-40C2-9422-3305D41F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4E56-E011-4659-939F-1B6242D3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6048-72C4-4B54-89D7-CF8900F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A3C-FED7-450E-A81D-0EA9AD4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80B-F569-4A9A-BEF8-7F19048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2A30-46D8-4AAF-9716-D0A123D3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DBE6-5906-4DB8-8010-74B723F6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AA85-B147-4D5F-908B-DDED92C4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C60-E180-4B2B-9AD1-1EE24239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44C-DE53-4025-B63F-B0B2A8DE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355-7051-499D-8023-BA08FFC5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756-C2F9-4AAC-863D-5477B9A0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F1D-8C2B-4ABF-B4DB-6D48E761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3F5-6AEE-495E-9F07-488BD86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CFE-2680-4A47-9857-0EE460A5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E37-71C2-4011-ACC8-8E7BC42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D030-756F-4C47-AF7F-12E6CFBCB9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B973-E20D-4DFB-B7EE-D7DBDF7B77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cc"/>
                </a:solidFill>
                <a:latin typeface="Tahoma"/>
              </a:rPr>
              <a:t>Demonstration Talk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room a 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ange a bicycl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bird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1587240" cy="1231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le a rod and r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rrange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row a frisb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446120" cy="17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151776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pare  a special sa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r a topic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15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12794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`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ve you ever tried to teach a child how to catch a ball without demonstrating the procedure with your han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seems almost impossible to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6000" y="2204640"/>
            <a:ext cx="172872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1613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y sitting on your hands and tell a friend how to make a paper airplane or how to do a simple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199692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4000" y="4508640"/>
            <a:ext cx="119376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oing one of these things makes one realize that there are times when it is absolutely necessary to demonstrate what you mean. In a demonstration talk you tell how something is done while demonstrating the action at the sam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08360" y="2057400"/>
            <a:ext cx="1292400" cy="180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515772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 a demonstration talk, you tell how something is done while demonstrating the action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demonstration talk must b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treme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well organiz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eg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gathering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all the materials that you will need for your demon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n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writ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your speech, making sure that you cover every part of the proces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and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pla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each step precisely and thorough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refully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 coordinat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hysical aspect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of the demonstration with your speech and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actis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ing your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might show how to do one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wing a golf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t a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00280"/>
            <a:ext cx="1459080" cy="28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t a ter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ok a 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7480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ollag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y a gu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ke a cake or p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911760" cy="21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13992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36576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6:02Z</dcterms:created>
  <dc:creator>Administrator</dc:creator>
  <dc:description/>
  <dc:language>en-US</dc:language>
  <cp:lastModifiedBy>Administrator</cp:lastModifiedBy>
  <dcterms:modified xsi:type="dcterms:W3CDTF">2006-04-10T17:21:32Z</dcterms:modified>
  <cp:revision>19</cp:revision>
  <dc:subject/>
  <dc:title>Demonstration Talks</dc:title>
</cp:coreProperties>
</file>